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86563"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2D8CC-63BB-4000-A9DE-9AF8B147C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37" name="PlaceHolder 2"/>
          <p:cNvSpPr>
            <a:spLocks noGrp="1"/>
          </p:cNvSpPr>
          <p:nvPr>
            <p:ph/>
          </p:nvPr>
        </p:nvSpPr>
        <p:spPr>
          <a:xfrm>
            <a:off x="685440" y="1358640"/>
            <a:ext cx="7924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38" name="PlaceHolder 3"/>
          <p:cNvSpPr>
            <a:spLocks noGrp="1"/>
          </p:cNvSpPr>
          <p:nvPr>
            <p:ph/>
          </p:nvPr>
        </p:nvSpPr>
        <p:spPr>
          <a:xfrm>
            <a:off x="685440" y="3826440"/>
            <a:ext cx="7924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F09BA-314E-4600-B3A7-7B41D613D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0" name="PlaceHolder 2"/>
          <p:cNvSpPr>
            <a:spLocks noGrp="1"/>
          </p:cNvSpPr>
          <p:nvPr>
            <p:ph/>
          </p:nvPr>
        </p:nvSpPr>
        <p:spPr>
          <a:xfrm>
            <a:off x="6854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41" name="PlaceHolder 3"/>
          <p:cNvSpPr>
            <a:spLocks noGrp="1"/>
          </p:cNvSpPr>
          <p:nvPr>
            <p:ph/>
          </p:nvPr>
        </p:nvSpPr>
        <p:spPr>
          <a:xfrm>
            <a:off x="47462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42" name="PlaceHolder 4"/>
          <p:cNvSpPr>
            <a:spLocks noGrp="1"/>
          </p:cNvSpPr>
          <p:nvPr>
            <p:ph/>
          </p:nvPr>
        </p:nvSpPr>
        <p:spPr>
          <a:xfrm>
            <a:off x="685440" y="38264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43" name="PlaceHolder 5"/>
          <p:cNvSpPr>
            <a:spLocks noGrp="1"/>
          </p:cNvSpPr>
          <p:nvPr>
            <p:ph/>
          </p:nvPr>
        </p:nvSpPr>
        <p:spPr>
          <a:xfrm>
            <a:off x="4746240" y="38264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0F87A-4022-4FA2-BDE9-693DCC792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5" name="PlaceHolder 2"/>
          <p:cNvSpPr>
            <a:spLocks noGrp="1"/>
          </p:cNvSpPr>
          <p:nvPr>
            <p:ph/>
          </p:nvPr>
        </p:nvSpPr>
        <p:spPr>
          <a:xfrm>
            <a:off x="685440" y="13586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46" name="PlaceHolder 3"/>
          <p:cNvSpPr>
            <a:spLocks noGrp="1"/>
          </p:cNvSpPr>
          <p:nvPr>
            <p:ph/>
          </p:nvPr>
        </p:nvSpPr>
        <p:spPr>
          <a:xfrm>
            <a:off x="3364920" y="13586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47" name="PlaceHolder 4"/>
          <p:cNvSpPr>
            <a:spLocks noGrp="1"/>
          </p:cNvSpPr>
          <p:nvPr>
            <p:ph/>
          </p:nvPr>
        </p:nvSpPr>
        <p:spPr>
          <a:xfrm>
            <a:off x="6044760" y="13586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48" name="PlaceHolder 5"/>
          <p:cNvSpPr>
            <a:spLocks noGrp="1"/>
          </p:cNvSpPr>
          <p:nvPr>
            <p:ph/>
          </p:nvPr>
        </p:nvSpPr>
        <p:spPr>
          <a:xfrm>
            <a:off x="685440" y="38264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49" name="PlaceHolder 6"/>
          <p:cNvSpPr>
            <a:spLocks noGrp="1"/>
          </p:cNvSpPr>
          <p:nvPr>
            <p:ph/>
          </p:nvPr>
        </p:nvSpPr>
        <p:spPr>
          <a:xfrm>
            <a:off x="3364920" y="38264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50" name="PlaceHolder 7"/>
          <p:cNvSpPr>
            <a:spLocks noGrp="1"/>
          </p:cNvSpPr>
          <p:nvPr>
            <p:ph/>
          </p:nvPr>
        </p:nvSpPr>
        <p:spPr>
          <a:xfrm>
            <a:off x="6044760" y="38264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13968-6DF5-46A0-B772-C0ECF722F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60" name="PlaceHolder 2"/>
          <p:cNvSpPr>
            <a:spLocks noGrp="1"/>
          </p:cNvSpPr>
          <p:nvPr>
            <p:ph type="subTitle"/>
          </p:nvPr>
        </p:nvSpPr>
        <p:spPr>
          <a:xfrm>
            <a:off x="685440" y="1358640"/>
            <a:ext cx="7924680" cy="4724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62"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64" name="PlaceHolder 2"/>
          <p:cNvSpPr>
            <a:spLocks noGrp="1"/>
          </p:cNvSpPr>
          <p:nvPr>
            <p:ph/>
          </p:nvPr>
        </p:nvSpPr>
        <p:spPr>
          <a:xfrm>
            <a:off x="685440" y="1358640"/>
            <a:ext cx="386712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65" name="PlaceHolder 3"/>
          <p:cNvSpPr>
            <a:spLocks noGrp="1"/>
          </p:cNvSpPr>
          <p:nvPr>
            <p:ph/>
          </p:nvPr>
        </p:nvSpPr>
        <p:spPr>
          <a:xfrm>
            <a:off x="4746240" y="1358640"/>
            <a:ext cx="386712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371600" y="63360"/>
            <a:ext cx="7238880" cy="49474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69" name="PlaceHolder 2"/>
          <p:cNvSpPr>
            <a:spLocks noGrp="1"/>
          </p:cNvSpPr>
          <p:nvPr>
            <p:ph/>
          </p:nvPr>
        </p:nvSpPr>
        <p:spPr>
          <a:xfrm>
            <a:off x="6854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70" name="PlaceHolder 3"/>
          <p:cNvSpPr>
            <a:spLocks noGrp="1"/>
          </p:cNvSpPr>
          <p:nvPr>
            <p:ph/>
          </p:nvPr>
        </p:nvSpPr>
        <p:spPr>
          <a:xfrm>
            <a:off x="4746240" y="1358640"/>
            <a:ext cx="386712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71" name="PlaceHolder 4"/>
          <p:cNvSpPr>
            <a:spLocks noGrp="1"/>
          </p:cNvSpPr>
          <p:nvPr>
            <p:ph/>
          </p:nvPr>
        </p:nvSpPr>
        <p:spPr>
          <a:xfrm>
            <a:off x="685440" y="38264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16" name="PlaceHolder 2"/>
          <p:cNvSpPr>
            <a:spLocks noGrp="1"/>
          </p:cNvSpPr>
          <p:nvPr>
            <p:ph type="subTitle"/>
          </p:nvPr>
        </p:nvSpPr>
        <p:spPr>
          <a:xfrm>
            <a:off x="685440" y="1358640"/>
            <a:ext cx="7924680" cy="4724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F5641-7739-47C0-90FC-950E8B783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73" name="PlaceHolder 2"/>
          <p:cNvSpPr>
            <a:spLocks noGrp="1"/>
          </p:cNvSpPr>
          <p:nvPr>
            <p:ph/>
          </p:nvPr>
        </p:nvSpPr>
        <p:spPr>
          <a:xfrm>
            <a:off x="685440" y="1358640"/>
            <a:ext cx="386712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74" name="PlaceHolder 3"/>
          <p:cNvSpPr>
            <a:spLocks noGrp="1"/>
          </p:cNvSpPr>
          <p:nvPr>
            <p:ph/>
          </p:nvPr>
        </p:nvSpPr>
        <p:spPr>
          <a:xfrm>
            <a:off x="47462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75" name="PlaceHolder 4"/>
          <p:cNvSpPr>
            <a:spLocks noGrp="1"/>
          </p:cNvSpPr>
          <p:nvPr>
            <p:ph/>
          </p:nvPr>
        </p:nvSpPr>
        <p:spPr>
          <a:xfrm>
            <a:off x="4746240" y="38264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77" name="PlaceHolder 2"/>
          <p:cNvSpPr>
            <a:spLocks noGrp="1"/>
          </p:cNvSpPr>
          <p:nvPr>
            <p:ph/>
          </p:nvPr>
        </p:nvSpPr>
        <p:spPr>
          <a:xfrm>
            <a:off x="6854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78" name="PlaceHolder 3"/>
          <p:cNvSpPr>
            <a:spLocks noGrp="1"/>
          </p:cNvSpPr>
          <p:nvPr>
            <p:ph/>
          </p:nvPr>
        </p:nvSpPr>
        <p:spPr>
          <a:xfrm>
            <a:off x="47462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79" name="PlaceHolder 4"/>
          <p:cNvSpPr>
            <a:spLocks noGrp="1"/>
          </p:cNvSpPr>
          <p:nvPr>
            <p:ph/>
          </p:nvPr>
        </p:nvSpPr>
        <p:spPr>
          <a:xfrm>
            <a:off x="685440" y="3826440"/>
            <a:ext cx="7924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81" name="PlaceHolder 2"/>
          <p:cNvSpPr>
            <a:spLocks noGrp="1"/>
          </p:cNvSpPr>
          <p:nvPr>
            <p:ph/>
          </p:nvPr>
        </p:nvSpPr>
        <p:spPr>
          <a:xfrm>
            <a:off x="685440" y="1358640"/>
            <a:ext cx="7924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82" name="PlaceHolder 3"/>
          <p:cNvSpPr>
            <a:spLocks noGrp="1"/>
          </p:cNvSpPr>
          <p:nvPr>
            <p:ph/>
          </p:nvPr>
        </p:nvSpPr>
        <p:spPr>
          <a:xfrm>
            <a:off x="685440" y="3826440"/>
            <a:ext cx="7924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84" name="PlaceHolder 2"/>
          <p:cNvSpPr>
            <a:spLocks noGrp="1"/>
          </p:cNvSpPr>
          <p:nvPr>
            <p:ph/>
          </p:nvPr>
        </p:nvSpPr>
        <p:spPr>
          <a:xfrm>
            <a:off x="6854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85" name="PlaceHolder 3"/>
          <p:cNvSpPr>
            <a:spLocks noGrp="1"/>
          </p:cNvSpPr>
          <p:nvPr>
            <p:ph/>
          </p:nvPr>
        </p:nvSpPr>
        <p:spPr>
          <a:xfrm>
            <a:off x="47462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86" name="PlaceHolder 4"/>
          <p:cNvSpPr>
            <a:spLocks noGrp="1"/>
          </p:cNvSpPr>
          <p:nvPr>
            <p:ph/>
          </p:nvPr>
        </p:nvSpPr>
        <p:spPr>
          <a:xfrm>
            <a:off x="685440" y="38264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87" name="PlaceHolder 5"/>
          <p:cNvSpPr>
            <a:spLocks noGrp="1"/>
          </p:cNvSpPr>
          <p:nvPr>
            <p:ph/>
          </p:nvPr>
        </p:nvSpPr>
        <p:spPr>
          <a:xfrm>
            <a:off x="4746240" y="38264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89" name="PlaceHolder 2"/>
          <p:cNvSpPr>
            <a:spLocks noGrp="1"/>
          </p:cNvSpPr>
          <p:nvPr>
            <p:ph/>
          </p:nvPr>
        </p:nvSpPr>
        <p:spPr>
          <a:xfrm>
            <a:off x="685440" y="13586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90" name="PlaceHolder 3"/>
          <p:cNvSpPr>
            <a:spLocks noGrp="1"/>
          </p:cNvSpPr>
          <p:nvPr>
            <p:ph/>
          </p:nvPr>
        </p:nvSpPr>
        <p:spPr>
          <a:xfrm>
            <a:off x="3364920" y="13586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91" name="PlaceHolder 4"/>
          <p:cNvSpPr>
            <a:spLocks noGrp="1"/>
          </p:cNvSpPr>
          <p:nvPr>
            <p:ph/>
          </p:nvPr>
        </p:nvSpPr>
        <p:spPr>
          <a:xfrm>
            <a:off x="6044760" y="13586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92" name="PlaceHolder 5"/>
          <p:cNvSpPr>
            <a:spLocks noGrp="1"/>
          </p:cNvSpPr>
          <p:nvPr>
            <p:ph/>
          </p:nvPr>
        </p:nvSpPr>
        <p:spPr>
          <a:xfrm>
            <a:off x="685440" y="38264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93" name="PlaceHolder 6"/>
          <p:cNvSpPr>
            <a:spLocks noGrp="1"/>
          </p:cNvSpPr>
          <p:nvPr>
            <p:ph/>
          </p:nvPr>
        </p:nvSpPr>
        <p:spPr>
          <a:xfrm>
            <a:off x="3364920" y="38264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94" name="PlaceHolder 7"/>
          <p:cNvSpPr>
            <a:spLocks noGrp="1"/>
          </p:cNvSpPr>
          <p:nvPr>
            <p:ph/>
          </p:nvPr>
        </p:nvSpPr>
        <p:spPr>
          <a:xfrm>
            <a:off x="6044760" y="3826440"/>
            <a:ext cx="2551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18"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DFE9B-F50E-4164-BFBB-B9B1CC2AE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20" name="PlaceHolder 2"/>
          <p:cNvSpPr>
            <a:spLocks noGrp="1"/>
          </p:cNvSpPr>
          <p:nvPr>
            <p:ph/>
          </p:nvPr>
        </p:nvSpPr>
        <p:spPr>
          <a:xfrm>
            <a:off x="685440" y="1358640"/>
            <a:ext cx="386712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21" name="PlaceHolder 3"/>
          <p:cNvSpPr>
            <a:spLocks noGrp="1"/>
          </p:cNvSpPr>
          <p:nvPr>
            <p:ph/>
          </p:nvPr>
        </p:nvSpPr>
        <p:spPr>
          <a:xfrm>
            <a:off x="4746240" y="1358640"/>
            <a:ext cx="386712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B2E3-10D4-4524-B02C-6319675CA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404FF-B68D-47CE-AF5D-8F6EFF0F9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71600" y="63360"/>
            <a:ext cx="7238880" cy="49474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E3C24-A086-40A4-A14B-E2AB4A909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25" name="PlaceHolder 2"/>
          <p:cNvSpPr>
            <a:spLocks noGrp="1"/>
          </p:cNvSpPr>
          <p:nvPr>
            <p:ph/>
          </p:nvPr>
        </p:nvSpPr>
        <p:spPr>
          <a:xfrm>
            <a:off x="6854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26" name="PlaceHolder 3"/>
          <p:cNvSpPr>
            <a:spLocks noGrp="1"/>
          </p:cNvSpPr>
          <p:nvPr>
            <p:ph/>
          </p:nvPr>
        </p:nvSpPr>
        <p:spPr>
          <a:xfrm>
            <a:off x="4746240" y="1358640"/>
            <a:ext cx="386712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27" name="PlaceHolder 4"/>
          <p:cNvSpPr>
            <a:spLocks noGrp="1"/>
          </p:cNvSpPr>
          <p:nvPr>
            <p:ph/>
          </p:nvPr>
        </p:nvSpPr>
        <p:spPr>
          <a:xfrm>
            <a:off x="685440" y="38264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D8F1B-86AD-43DF-8CA0-024E34FEB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29" name="PlaceHolder 2"/>
          <p:cNvSpPr>
            <a:spLocks noGrp="1"/>
          </p:cNvSpPr>
          <p:nvPr>
            <p:ph/>
          </p:nvPr>
        </p:nvSpPr>
        <p:spPr>
          <a:xfrm>
            <a:off x="685440" y="1358640"/>
            <a:ext cx="3867120" cy="4724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30" name="PlaceHolder 3"/>
          <p:cNvSpPr>
            <a:spLocks noGrp="1"/>
          </p:cNvSpPr>
          <p:nvPr>
            <p:ph/>
          </p:nvPr>
        </p:nvSpPr>
        <p:spPr>
          <a:xfrm>
            <a:off x="47462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31" name="PlaceHolder 4"/>
          <p:cNvSpPr>
            <a:spLocks noGrp="1"/>
          </p:cNvSpPr>
          <p:nvPr>
            <p:ph/>
          </p:nvPr>
        </p:nvSpPr>
        <p:spPr>
          <a:xfrm>
            <a:off x="4746240" y="38264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736F2-CFB5-4726-8105-83986BFC2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63360"/>
            <a:ext cx="7238880" cy="1067040"/>
          </a:xfrm>
          <a:prstGeom prst="rect">
            <a:avLst/>
          </a:prstGeom>
          <a:noFill/>
          <a:ln w="0">
            <a:noFill/>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33" name="PlaceHolder 2"/>
          <p:cNvSpPr>
            <a:spLocks noGrp="1"/>
          </p:cNvSpPr>
          <p:nvPr>
            <p:ph/>
          </p:nvPr>
        </p:nvSpPr>
        <p:spPr>
          <a:xfrm>
            <a:off x="6854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34" name="PlaceHolder 3"/>
          <p:cNvSpPr>
            <a:spLocks noGrp="1"/>
          </p:cNvSpPr>
          <p:nvPr>
            <p:ph/>
          </p:nvPr>
        </p:nvSpPr>
        <p:spPr>
          <a:xfrm>
            <a:off x="4746240" y="1358640"/>
            <a:ext cx="386712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35" name="PlaceHolder 4"/>
          <p:cNvSpPr>
            <a:spLocks noGrp="1"/>
          </p:cNvSpPr>
          <p:nvPr>
            <p:ph/>
          </p:nvPr>
        </p:nvSpPr>
        <p:spPr>
          <a:xfrm>
            <a:off x="685440" y="3826440"/>
            <a:ext cx="7924680" cy="22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D1D2F-187A-4ECC-8F37-D329806BE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61240" y="0"/>
            <a:ext cx="482760" cy="6858000"/>
          </a:xfrm>
          <a:prstGeom prst="rect">
            <a:avLst/>
          </a:prstGeom>
          <a:gradFill rotWithShape="0">
            <a:gsLst>
              <a:gs pos="0">
                <a:srgbClr val="d5d5d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 name=""/>
          <p:cNvSpPr/>
          <p:nvPr/>
        </p:nvSpPr>
        <p:spPr>
          <a:xfrm>
            <a:off x="0" y="0"/>
            <a:ext cx="482760" cy="6858000"/>
          </a:xfrm>
          <a:prstGeom prst="rect">
            <a:avLst/>
          </a:prstGeom>
          <a:gradFill rotWithShape="0">
            <a:gsLst>
              <a:gs pos="0">
                <a:srgbClr val="ffffff"/>
              </a:gs>
              <a:gs pos="100000">
                <a:srgbClr val="d5d5d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 name=""/>
          <p:cNvSpPr/>
          <p:nvPr/>
        </p:nvSpPr>
        <p:spPr>
          <a:xfrm>
            <a:off x="0" y="0"/>
            <a:ext cx="9144000" cy="444600"/>
          </a:xfrm>
          <a:prstGeom prst="rect">
            <a:avLst/>
          </a:prstGeom>
          <a:solidFill>
            <a:srgbClr val="26295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 name="" descr=""/>
          <p:cNvPicPr/>
          <p:nvPr/>
        </p:nvPicPr>
        <p:blipFill>
          <a:blip r:embed="rId2"/>
          <a:stretch/>
        </p:blipFill>
        <p:spPr>
          <a:xfrm>
            <a:off x="0" y="0"/>
            <a:ext cx="3213000" cy="482760"/>
          </a:xfrm>
          <a:prstGeom prst="rect">
            <a:avLst/>
          </a:prstGeom>
          <a:ln w="0">
            <a:noFill/>
          </a:ln>
        </p:spPr>
      </p:pic>
      <p:sp>
        <p:nvSpPr>
          <p:cNvPr id="4" name=""/>
          <p:cNvSpPr/>
          <p:nvPr/>
        </p:nvSpPr>
        <p:spPr>
          <a:xfrm>
            <a:off x="3054240" y="0"/>
            <a:ext cx="254160" cy="222120"/>
          </a:xfrm>
          <a:prstGeom prst="rect">
            <a:avLst/>
          </a:prstGeom>
          <a:solidFill>
            <a:srgbClr val="262954"/>
          </a:solidFill>
          <a:ln w="3240">
            <a:solidFill>
              <a:srgbClr val="26295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5" name="" descr=""/>
          <p:cNvPicPr/>
          <p:nvPr/>
        </p:nvPicPr>
        <p:blipFill>
          <a:blip r:embed="rId3"/>
          <a:stretch/>
        </p:blipFill>
        <p:spPr>
          <a:xfrm>
            <a:off x="343080" y="922320"/>
            <a:ext cx="4614840" cy="4575240"/>
          </a:xfrm>
          <a:prstGeom prst="rect">
            <a:avLst/>
          </a:prstGeom>
          <a:ln w="0">
            <a:noFill/>
          </a:ln>
        </p:spPr>
      </p:pic>
      <p:sp>
        <p:nvSpPr>
          <p:cNvPr id="6" name="PlaceHolder 1"/>
          <p:cNvSpPr>
            <a:spLocks noGrp="1"/>
          </p:cNvSpPr>
          <p:nvPr>
            <p:ph type="body"/>
          </p:nvPr>
        </p:nvSpPr>
        <p:spPr>
          <a:xfrm>
            <a:off x="685440" y="1358640"/>
            <a:ext cx="7924680" cy="4724280"/>
          </a:xfrm>
          <a:prstGeom prst="rect">
            <a:avLst/>
          </a:prstGeom>
          <a:noFill/>
          <a:ln w="0">
            <a:noFill/>
          </a:ln>
        </p:spPr>
        <p:txBody>
          <a:bodyPr lIns="90000" rIns="90000" tIns="46800" bIns="46800" anchor="t">
            <a:normAutofit/>
          </a:bodyPr>
          <a:p>
            <a:pPr marL="343080" indent="-343080">
              <a:spcBef>
                <a:spcPts val="55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Verdana"/>
              </a:rPr>
              <a:t>Click to edit the outline text format</a:t>
            </a:r>
            <a:endParaRPr b="1" lang="en-US" sz="2200" spc="-1" strike="noStrike">
              <a:solidFill>
                <a:srgbClr val="40458c"/>
              </a:solidFill>
              <a:latin typeface="Verdana"/>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Verdana"/>
              </a:rPr>
              <a:t>Second Outline Level</a:t>
            </a:r>
            <a:endParaRPr b="1" lang="en-US" sz="2200" spc="-1" strike="noStrike">
              <a:solidFill>
                <a:srgbClr val="40458c"/>
              </a:solidFill>
              <a:latin typeface="Verdana"/>
            </a:endParaRPr>
          </a:p>
          <a:p>
            <a:pPr lvl="2" marL="1143000" indent="-228600">
              <a:spcBef>
                <a:spcPts val="55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Verdana"/>
              </a:rPr>
              <a:t>Third Outline Level</a:t>
            </a:r>
            <a:endParaRPr b="1" lang="en-US" sz="2200" spc="-1" strike="noStrike">
              <a:solidFill>
                <a:srgbClr val="40458c"/>
              </a:solidFill>
              <a:latin typeface="Verdana"/>
            </a:endParaRPr>
          </a:p>
          <a:p>
            <a:pPr lvl="3" marL="1600200" indent="-228600">
              <a:spcBef>
                <a:spcPts val="55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Verdana"/>
              </a:rPr>
              <a:t>Fourth Outline Level</a:t>
            </a:r>
            <a:endParaRPr b="1" lang="en-US" sz="2200" spc="-1" strike="noStrike">
              <a:solidFill>
                <a:srgbClr val="40458c"/>
              </a:solidFill>
              <a:latin typeface="Verdana"/>
            </a:endParaRPr>
          </a:p>
          <a:p>
            <a:pPr lvl="4" marL="2057400" indent="-228600">
              <a:spcBef>
                <a:spcPts val="55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Verdana"/>
              </a:rPr>
              <a:t>Fifth Outline Level</a:t>
            </a:r>
            <a:endParaRPr b="1" lang="en-US" sz="2200" spc="-1" strike="noStrike">
              <a:solidFill>
                <a:srgbClr val="40458c"/>
              </a:solidFill>
              <a:latin typeface="Verdana"/>
            </a:endParaRPr>
          </a:p>
          <a:p>
            <a:pPr lvl="5" marL="2057400" indent="-22860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Verdana"/>
              </a:rPr>
              <a:t>Sixth Outline Level</a:t>
            </a:r>
            <a:endParaRPr b="1" lang="en-US" sz="2200" spc="-1" strike="noStrike">
              <a:solidFill>
                <a:srgbClr val="40458c"/>
              </a:solidFill>
              <a:latin typeface="Verdana"/>
            </a:endParaRPr>
          </a:p>
          <a:p>
            <a:pPr lvl="6" marL="2057400" indent="-22860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Verdana"/>
              </a:rPr>
              <a:t>Seventh Outline Level</a:t>
            </a:r>
            <a:endParaRPr b="1" lang="en-US" sz="2200" spc="-1" strike="noStrike">
              <a:solidFill>
                <a:srgbClr val="40458c"/>
              </a:solidFill>
              <a:latin typeface="Verdana"/>
            </a:endParaRPr>
          </a:p>
        </p:txBody>
      </p:sp>
      <p:sp>
        <p:nvSpPr>
          <p:cNvPr id="7"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 name=""/>
          <p:cNvSpPr/>
          <p:nvPr/>
        </p:nvSpPr>
        <p:spPr>
          <a:xfrm>
            <a:off x="0" y="6769080"/>
            <a:ext cx="9144000" cy="88920"/>
          </a:xfrm>
          <a:prstGeom prst="rect">
            <a:avLst/>
          </a:prstGeom>
          <a:solidFill>
            <a:srgbClr val="40458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40458c"/>
              </a:solidFill>
              <a:latin typeface="Times New Roman"/>
            </a:endParaRPr>
          </a:p>
        </p:txBody>
      </p:sp>
      <p:sp>
        <p:nvSpPr>
          <p:cNvPr id="11" name="PlaceHolder 4"/>
          <p:cNvSpPr>
            <a:spLocks noGrp="1"/>
          </p:cNvSpPr>
          <p:nvPr>
            <p:ph type="sldNum" idx="3"/>
          </p:nvPr>
        </p:nvSpPr>
        <p:spPr>
          <a:xfrm>
            <a:off x="6950160" y="6533640"/>
            <a:ext cx="2193840" cy="298440"/>
          </a:xfrm>
          <a:prstGeom prst="rect">
            <a:avLst/>
          </a:prstGeom>
          <a:solidFill>
            <a:srgbClr val="ff6600"/>
          </a:solid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Verdana"/>
              </a:rPr>
              <a:t>   </a:t>
            </a:r>
            <a:fld id="{5B285CB5-28AC-4E57-88FF-7122106D77C6}" type="slidenum">
              <a:rPr b="1" lang="en-GB"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2" name="PlaceHolder 5"/>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Verdana"/>
              </a:rPr>
              <a:t>Click to edit the title text format</a:t>
            </a:r>
            <a:endParaRPr b="1" lang="en-US" sz="1600" spc="-1" strike="noStrike">
              <a:solidFill>
                <a:srgbClr val="40458c"/>
              </a:solidFill>
              <a:latin typeface="Verdana"/>
            </a:endParaRPr>
          </a:p>
        </p:txBody>
      </p:sp>
      <p:sp>
        <p:nvSpPr>
          <p:cNvPr id="13" name=""/>
          <p:cNvSpPr/>
          <p:nvPr/>
        </p:nvSpPr>
        <p:spPr>
          <a:xfrm>
            <a:off x="79200" y="325440"/>
            <a:ext cx="1198800" cy="498600"/>
          </a:xfrm>
          <a:prstGeom prst="rect">
            <a:avLst/>
          </a:prstGeom>
          <a:solidFill>
            <a:srgbClr val="f8f8f8"/>
          </a:solidFill>
          <a:ln w="32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4" name="" descr=""/>
          <p:cNvPicPr/>
          <p:nvPr/>
        </p:nvPicPr>
        <p:blipFill>
          <a:blip r:embed="rId4"/>
          <a:stretch/>
        </p:blipFill>
        <p:spPr>
          <a:xfrm>
            <a:off x="144360" y="387360"/>
            <a:ext cx="1044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pic>
        <p:nvPicPr>
          <p:cNvPr id="53" name="" descr=""/>
          <p:cNvPicPr/>
          <p:nvPr/>
        </p:nvPicPr>
        <p:blipFill>
          <a:blip r:embed="rId2"/>
          <a:stretch/>
        </p:blipFill>
        <p:spPr>
          <a:xfrm>
            <a:off x="2959200" y="1577880"/>
            <a:ext cx="3166920" cy="1281240"/>
          </a:xfrm>
          <a:prstGeom prst="rect">
            <a:avLst/>
          </a:prstGeom>
          <a:ln w="0">
            <a:noFill/>
          </a:ln>
        </p:spPr>
      </p:pic>
      <p:sp>
        <p:nvSpPr>
          <p:cNvPr id="54" name=""/>
          <p:cNvSpPr/>
          <p:nvPr/>
        </p:nvSpPr>
        <p:spPr>
          <a:xfrm>
            <a:off x="6950160" y="6534000"/>
            <a:ext cx="2193840" cy="298440"/>
          </a:xfrm>
          <a:prstGeom prst="rect">
            <a:avLst/>
          </a:prstGeom>
          <a:solidFill>
            <a:srgbClr val="40458c"/>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Verdana"/>
              </a:rPr>
              <a:t>   </a:t>
            </a:r>
            <a:fld id="{F531959C-F1D0-4943-9CFE-1A7D3A8253E2}" type="slidenum">
              <a:rPr b="1" lang="en-GB" sz="1400" spc="-1" strike="noStrike">
                <a:solidFill>
                  <a:srgbClr val="ffffff"/>
                </a:solidFill>
                <a:latin typeface="Verdana"/>
              </a:rPr>
              <a:t>&lt;number&gt;</a:t>
            </a:fld>
            <a:endParaRPr b="0" lang="en-US" sz="1400" spc="-1" strike="noStrike">
              <a:solidFill>
                <a:srgbClr val="40458c"/>
              </a:solidFill>
              <a:latin typeface="Times New Roman"/>
            </a:endParaRPr>
          </a:p>
        </p:txBody>
      </p:sp>
      <p:sp>
        <p:nvSpPr>
          <p:cNvPr id="55" name=""/>
          <p:cNvSpPr/>
          <p:nvPr/>
        </p:nvSpPr>
        <p:spPr>
          <a:xfrm>
            <a:off x="0" y="0"/>
            <a:ext cx="9144000" cy="88920"/>
          </a:xfrm>
          <a:prstGeom prst="rect">
            <a:avLst/>
          </a:prstGeom>
          <a:solidFill>
            <a:srgbClr val="40458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40458c"/>
              </a:solidFill>
              <a:latin typeface="Times New Roman"/>
            </a:endParaRPr>
          </a:p>
        </p:txBody>
      </p:sp>
      <p:sp>
        <p:nvSpPr>
          <p:cNvPr id="56" name=""/>
          <p:cNvSpPr/>
          <p:nvPr/>
        </p:nvSpPr>
        <p:spPr>
          <a:xfrm>
            <a:off x="0" y="6769080"/>
            <a:ext cx="9144000" cy="88920"/>
          </a:xfrm>
          <a:prstGeom prst="rect">
            <a:avLst/>
          </a:prstGeom>
          <a:solidFill>
            <a:srgbClr val="40458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40458c"/>
              </a:solidFill>
              <a:latin typeface="Times New Roman"/>
            </a:endParaRPr>
          </a:p>
        </p:txBody>
      </p:sp>
      <p:sp>
        <p:nvSpPr>
          <p:cNvPr id="5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Verdana"/>
              </a:rPr>
              <a:t>Click to edit the title text format</a:t>
            </a:r>
            <a:endParaRPr b="1" lang="en-US" sz="1400" spc="-1" strike="noStrike">
              <a:solidFill>
                <a:srgbClr val="40458c"/>
              </a:solidFill>
              <a:latin typeface="Verdana"/>
            </a:endParaRPr>
          </a:p>
        </p:txBody>
      </p:sp>
      <p:sp>
        <p:nvSpPr>
          <p:cNvPr id="5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lick to edit the outline text format</a:t>
            </a:r>
            <a:endParaRPr b="1" lang="en-US" sz="22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Verdana"/>
              </a:rPr>
              <a:t>Second Outline Level</a:t>
            </a:r>
            <a:endParaRPr b="0" lang="en-US" sz="1800" spc="-1" strike="noStrike">
              <a:solidFill>
                <a:srgbClr val="5f5f5f"/>
              </a:solidFill>
              <a:latin typeface="Verdana"/>
            </a:endParaRPr>
          </a:p>
          <a:p>
            <a:pPr lvl="2" marL="914400" algn="ctr">
              <a:spcBef>
                <a:spcPts val="400"/>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rPr>
              <a:t>Third Outline Level</a:t>
            </a:r>
            <a:endParaRPr b="0" lang="en-US" sz="1600" spc="-1" strike="noStrike">
              <a:solidFill>
                <a:srgbClr val="5f5f5f"/>
              </a:solidFill>
              <a:latin typeface="Verdana"/>
            </a:endParaRPr>
          </a:p>
          <a:p>
            <a:pPr lvl="3" marL="1371600" algn="ctr">
              <a:spcBef>
                <a:spcPts val="400"/>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rPr>
              <a:t>Fourth Outline Level</a:t>
            </a:r>
            <a:endParaRPr b="0" lang="en-US" sz="1600" spc="-1" strike="noStrike">
              <a:solidFill>
                <a:srgbClr val="5f5f5f"/>
              </a:solidFill>
              <a:latin typeface="Verdana"/>
            </a:endParaRPr>
          </a:p>
          <a:p>
            <a:pPr lvl="4" marL="1828800" algn="ctr">
              <a:spcBef>
                <a:spcPts val="400"/>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rPr>
              <a:t>Fifth Outline Level</a:t>
            </a:r>
            <a:endParaRPr b="0" lang="en-US" sz="1600" spc="-1" strike="noStrike">
              <a:solidFill>
                <a:srgbClr val="5f5f5f"/>
              </a:solidFill>
              <a:latin typeface="Verdana"/>
            </a:endParaRPr>
          </a:p>
          <a:p>
            <a:pPr lvl="5" marL="182880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rPr>
              <a:t>Sixth Outline Level</a:t>
            </a:r>
            <a:endParaRPr b="0" lang="en-US" sz="1600" spc="-1" strike="noStrike">
              <a:solidFill>
                <a:srgbClr val="5f5f5f"/>
              </a:solidFill>
              <a:latin typeface="Verdana"/>
            </a:endParaRPr>
          </a:p>
          <a:p>
            <a:pPr lvl="6" marL="182880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rPr>
              <a:t>Seventh Outline Level</a:t>
            </a:r>
            <a:endParaRPr b="0" lang="en-US" sz="1600" spc="-1" strike="noStrike">
              <a:solidFill>
                <a:srgbClr val="5f5f5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3392640"/>
            <a:ext cx="9144000" cy="1179360"/>
          </a:xfrm>
          <a:prstGeom prst="rect">
            <a:avLst/>
          </a:prstGeom>
          <a:solidFill>
            <a:srgbClr val="969696"/>
          </a:solidFill>
          <a:ln w="0">
            <a:noFill/>
          </a:ln>
        </p:spPr>
        <p: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300" spc="-1" strike="noStrike">
                <a:solidFill>
                  <a:srgbClr val="ffffff"/>
                </a:solidFill>
                <a:latin typeface="Verdana"/>
              </a:rPr>
              <a:t>“</a:t>
            </a:r>
            <a:r>
              <a:rPr b="1" lang="en-GB" sz="2300" spc="-1" strike="noStrike">
                <a:solidFill>
                  <a:srgbClr val="ffffff"/>
                </a:solidFill>
                <a:latin typeface="Verdana"/>
              </a:rPr>
              <a:t>P.R.A.E. </a:t>
            </a:r>
            <a:r>
              <a:rPr b="1" lang="lv-LV" sz="2300" spc="-1" strike="noStrike">
                <a:solidFill>
                  <a:srgbClr val="ffffff"/>
                </a:solidFill>
                <a:latin typeface="Verdana"/>
              </a:rPr>
              <a:t>Sabiedriskās attiecības”</a:t>
            </a:r>
            <a:r>
              <a:rPr b="1" lang="en-GB" sz="2200" spc="-1" strike="noStrike">
                <a:solidFill>
                  <a:srgbClr val="ffffff"/>
                </a:solidFill>
                <a:latin typeface="Verdana"/>
              </a:rPr>
              <a:t> </a:t>
            </a:r>
            <a:endParaRPr b="1" lang="en-US" sz="2200" spc="-1" strike="noStrike">
              <a:solidFill>
                <a:srgbClr val="ffffff"/>
              </a:solidFill>
              <a:latin typeface="Verdan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ffffff"/>
                </a:solidFill>
                <a:latin typeface="Verdana"/>
              </a:rPr>
              <a:t>Aģentūras prezentācija</a:t>
            </a:r>
            <a:endParaRPr b="1" lang="en-US" sz="2200" spc="-1" strike="noStrike">
              <a:solidFill>
                <a:srgbClr val="ffffff"/>
              </a:solidFill>
              <a:latin typeface="Verdan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Verdana"/>
            </a:endParaRPr>
          </a:p>
        </p:txBody>
      </p:sp>
      <p:sp>
        <p:nvSpPr>
          <p:cNvPr id="96" name=""/>
          <p:cNvSpPr/>
          <p:nvPr/>
        </p:nvSpPr>
        <p:spPr>
          <a:xfrm>
            <a:off x="3238560" y="4915080"/>
            <a:ext cx="2768400" cy="322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40458c"/>
                </a:solidFill>
                <a:latin typeface="Verdana"/>
              </a:rPr>
              <a:t>Rīga, 2005.</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15" name="PlaceHolder 2"/>
          <p:cNvSpPr>
            <a:spLocks noGrp="1"/>
          </p:cNvSpPr>
          <p:nvPr>
            <p:ph/>
          </p:nvPr>
        </p:nvSpPr>
        <p:spPr>
          <a:xfrm>
            <a:off x="685440" y="1155240"/>
            <a:ext cx="7924680" cy="5480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Aptaujāto viedoklis par „VP Market”:</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t>
            </a:r>
            <a:r>
              <a:rPr b="0" lang="lv-LV" sz="1600" spc="-1" strike="noStrike">
                <a:solidFill>
                  <a:srgbClr val="777777"/>
                </a:solidFill>
                <a:latin typeface="Verdana"/>
              </a:rPr>
              <a:t>VP Market” pašlaik sabiedrībā viennozīmīgi tiek uztverts kā viens no nozares līderiem (kopā ar „Rimi” – turklāt ir dažādi subjektīvi viedokļi, kurš no abiem ir vadošais nozares uzņēmums), liels un nozīmīgs spēlētājs, ar kuru nozarē nav iespējams nerēķinātie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ptaujātajiem ir zināms, ka Latvijā ir izveidots plašs lielveikalu „Maxima” un zemo cenu veikalu „Saulīte” tīkls. „Maxima” veikali gan pagaidām aptver tikai lielās pilsēta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Tas ir tīkls, kurš pietiekami dinamiski attīstās un tiek uzskatīts par veiksmīgu biznesa piemēru;</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24A3E1DA-6390-4E57-94D8-77196BAD32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17"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ar galvenajiem uzņēmuma konkurentiem uzskata „Rimi”, „Elvi”, mazāk – „Mego”, „Beta”, „Nelda”. Aptaujātie ļoti pozitīvi izsakās par „Sky”, taču viņi arī saprot, ka šis nelielais uzņēmums nav konkurents „VP Market” tīklam;</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astāv viedoklis, ka „VP Market” veikalos preces ir lētākas nekā „Rimi” vai „Sky”, tajā pašā laikā – dārgākas nekā, piemēram, „Neldā”, „Mego” vai „Elvi”;</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t>
            </a:r>
            <a:r>
              <a:rPr b="0" lang="lv-LV" sz="1600" spc="-1" strike="noStrike">
                <a:solidFill>
                  <a:srgbClr val="777777"/>
                </a:solidFill>
                <a:latin typeface="Verdana"/>
              </a:rPr>
              <a:t>Maximā” ir plašāks preču piedāvājums un lielākas izvēles iespējas pircējiem nekā konkurentu veikalo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tšķiras aptaujāto viedokļi par preču un pakalpojumu kvalitāti – iespējams tāpēc, ka viņi iepērkas dažādos „VP Market” veikalo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7EDE5C7D-207C-4975-AB20-82A256FD1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br>
              <a:rPr sz="1600"/>
            </a:br>
            <a:endParaRPr b="1" lang="en-US" sz="1600" spc="-1" strike="noStrike">
              <a:solidFill>
                <a:srgbClr val="40458c"/>
              </a:solidFill>
              <a:latin typeface="Verdana"/>
            </a:endParaRPr>
          </a:p>
        </p:txBody>
      </p:sp>
      <p:sp>
        <p:nvSpPr>
          <p:cNvPr id="119"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t>
            </a:r>
            <a:r>
              <a:rPr b="0" lang="lv-LV" sz="1600" spc="-1" strike="noStrike">
                <a:solidFill>
                  <a:srgbClr val="777777"/>
                </a:solidFill>
                <a:latin typeface="Verdana"/>
              </a:rPr>
              <a:t>Maxima” tiek uztverts kā „normāls” veikalu tīklu, kas pārdod pamatā Latvijas pārtikas preces. Lietuvas preču piedāvājums tagad tiek uzskatīts kā papildu iespēja; </a:t>
            </a:r>
            <a:endParaRPr b="1" lang="en-US" sz="1600" spc="-1" strike="noStrike">
              <a:solidFill>
                <a:srgbClr val="40458c"/>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Cilvēki iepērkas pēc dzīvesvietas vai „pa ceļam”. Taču starp aptaujātajiem cilvēkiem (pamatā latviešiem ar vidējiem un augstiem ienākumiem) nepastāv viedoklis, ka šeit iepirkties ir prestiži un tā ir labākā vieta pārtikas (un arī nepārtikas preču) iegādei. </a:t>
            </a:r>
            <a:endParaRPr b="1" lang="en-US" sz="1600" spc="-1" strike="noStrike">
              <a:solidFill>
                <a:srgbClr val="40458c"/>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ptaujātie ir „kautrīgi”, atzīstoties, ka viņi gan iepērkas „Maximā”, taču „mēs to nedarām pastāvīgi”, „nav jau citu iespēju – dzīvojam blakus veikalam”, „citi ir tādi paši” u.t.t. Taču cilvēku ar vidējiem un augstiem ienākumiem vidū tieši veikalu prestižam ir nozīmīga vieta, izšķiroties par labu tam vai citam piedāvājumam;</a:t>
            </a:r>
            <a:endParaRPr b="1" lang="en-US" sz="1600" spc="-1" strike="noStrike">
              <a:solidFill>
                <a:srgbClr val="40458c"/>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ptaujātajiem „VP Market” uzņēmums un veikali ir ”lietuvieši” – šis apzīmējums tiek lietots neitrālā nozīmē un tam nav īpašas emocionālās slodzes;</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12471DD6-4EFF-4C81-8F54-90873248CE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br>
              <a:rPr sz="1600"/>
            </a:br>
            <a:endParaRPr b="1" lang="en-US" sz="1600" spc="-1" strike="noStrike">
              <a:solidFill>
                <a:srgbClr val="40458c"/>
              </a:solidFill>
              <a:latin typeface="Verdana"/>
            </a:endParaRPr>
          </a:p>
        </p:txBody>
      </p:sp>
      <p:sp>
        <p:nvSpPr>
          <p:cNvPr id="121" name="PlaceHolder 2"/>
          <p:cNvSpPr>
            <a:spLocks noGrp="1"/>
          </p:cNvSpPr>
          <p:nvPr>
            <p:ph/>
          </p:nvPr>
        </p:nvSpPr>
        <p:spPr>
          <a:xfrm>
            <a:off x="685440" y="1359000"/>
            <a:ext cx="8170920" cy="5013360"/>
          </a:xfrm>
          <a:prstGeom prst="rect">
            <a:avLst/>
          </a:prstGeom>
          <a:noFill/>
          <a:ln w="0">
            <a:noFill/>
          </a:ln>
        </p:spPr>
        <p:txBody>
          <a:bodyPr lIns="90000" rIns="90000" tIns="46800" bIns="46800" anchor="t">
            <a:normAutofit/>
          </a:bodyPr>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Nav priekšstata, kam uzņēmums pieder un kas to vada. Tā ir uzņēmuma īpatnība, kas to atšķir no daudziem Latvijas uzņēmumiem, kas bieži vien ļoti cieši tiek saistīti ar vadību un tiek uztverti personalizēti;</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astāv viedoklis, ka šis veikalu tīkls ļoti agresīvi un reizēm bezceremoniāli ienācis Latvijas tirgū, iznīcinot vietējos veikalus;</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tsevišķos gadījumos vērojama neapmierinātība, ka darbinieki ir nepietiekami apmācīti, strādā pārāk lēni, vēl neorientējas darba pienākumos, jo acīmredzot ir tikko pieņemti darbā, veidojas rindas pie kasēm (tiesa, par „Rimi” ir viedoklis, ka tur speciāli ekonomē uz kasieru darba vietām). Pārdevēji cenšas sveicināt pircējus, taču viņi ar nostalģiju atceras „Citymarket” laipnos darbinieku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Nopietni nevērtē „Maxima” klienta karte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tceras ziņas par vēlmi ievest darbaspēku no ārzemēm un uzskata, ka veikalos ir zemas algas un slikti darba apstākļi.</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DE8C004F-AEB2-404A-BC9B-3606803AD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br>
              <a:rPr sz="1600"/>
            </a:br>
            <a:endParaRPr b="1" lang="en-US" sz="1600" spc="-1" strike="noStrike">
              <a:solidFill>
                <a:srgbClr val="40458c"/>
              </a:solidFill>
              <a:latin typeface="Verdana"/>
            </a:endParaRPr>
          </a:p>
        </p:txBody>
      </p:sp>
      <p:sp>
        <p:nvSpPr>
          <p:cNvPr id="123"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41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Specifiskie uzņēmuma publicitāti ietekmējošie faktori</a:t>
            </a:r>
            <a:endParaRPr b="1" lang="en-US" sz="1600" spc="-1" strike="noStrike">
              <a:solidFill>
                <a:srgbClr val="40458c"/>
              </a:solidFill>
              <a:latin typeface="Verdana"/>
            </a:endParaRPr>
          </a:p>
          <a:p>
            <a:pPr marL="41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41904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Objektīvā situācija: mazumtirdzniecības uzņēmumi nav tādas struktūras, kuru ikviens notikums būtu sabiedrībai interesants pats par sevi – tāpēc reālo notikumu un jaunumu publicitātē veidojas dabiskie pārtraukumi, it sevišķi tāpēc, ka liela daļa reālo notikumu no mediju viedokļa saistāmi ar komercinformāciju/reklāmu. </a:t>
            </a:r>
            <a:endParaRPr b="1" lang="en-US" sz="1600" spc="-1" strike="noStrike">
              <a:solidFill>
                <a:srgbClr val="40458c"/>
              </a:solidFill>
              <a:latin typeface="Verdana"/>
            </a:endParaRPr>
          </a:p>
          <a:p>
            <a:pPr marL="41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41904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t>
            </a:r>
            <a:r>
              <a:rPr b="0" lang="lv-LV" sz="1600" spc="-1" strike="noStrike">
                <a:solidFill>
                  <a:srgbClr val="777777"/>
                </a:solidFill>
                <a:latin typeface="Verdana"/>
              </a:rPr>
              <a:t>Mākslīgie” notikumi: tā kā mazumtirdzniecības uzņēmumiem dabisko notikumu, kas no mediju viedokļa ir iekļaujami pamata saturā, nav tik daudz, lai uzturētu nepārtraukto informācijas plūsmu, nepieciešama arī pašu iniciētu pasākumu vai notikumu izstrāde, kas var piesaistīt sabiedrības vai mediju uzmanību;</a:t>
            </a:r>
            <a:endParaRPr b="1" lang="en-US" sz="1600" spc="-1" strike="noStrike">
              <a:solidFill>
                <a:srgbClr val="40458c"/>
              </a:solidFill>
              <a:latin typeface="Verdana"/>
            </a:endParaRPr>
          </a:p>
          <a:p>
            <a:pPr marL="41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41904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Noguruma risks: tai paša laikā sabiedrisko attiecību pieredze apliecina, ka komerciestādei lielu mediju uzmanību nav iespējams uzturēt nepārtraukti – rodas dabisks auditorijas/mediju nogurums no konkrētā objekta;</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31B994F1-EB73-4B00-B0FE-EFF907C475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25"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Pozitīvie publicitāti veicinošie aspekti:</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R sasaiste ar dabiskiem notikumiem; </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R sasaiste ar sabiedrībai svarīgiem un/vai aktuāliem notikumiem un procesiem;</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R sasaiste ar klientam svarīgas t/c īpašības izcelšanu;</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Sabiedrībā pazīstamu cilvēku piesaiste publicitātes pasākumiem.</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0B44E8A5-B379-44FD-89EA-E232AAB6CE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27"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Negatīvie aspekti attiecībā uz publicitāti:</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Ja netiek sasaistītas PR un mārketinga aktivitāte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Dabisko ziņu trūkum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ārāk komerciāli vai nepietiekami vērienīgi pašu iniciētie pasākumi/notikumi;</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Sortimenta un piedāvājuma problēma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iesātinājums ar konkurentu ziņām medijo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Negatīvā publicitāte, kas atsevišķos gadījumos ir konkurentu inspirēta.</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C44F20AF-5D1F-4872-BB58-8425750879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29"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Risinājumi komunikācijas īstenošanai</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Interesantas, saistošas un būtiskas informācijas atlase;</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Savlaicīgums un aktualitāte;</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rofesionāli viedokļi, ekspertu vērtējumi par biznesa jautājumiem;</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Valstiski svarīgas tēmas, provinces dzīves problēmu un jautājumu komunikācijas veicināšana centrālajā presē;</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Sadarbības veidu meklēšana ar medijiem, aizstājot tiešās reklāmas ievietošanas trūkumu;</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Reālu mērķu uzstādīšana sabiedrisko attiecību realizācijai, nepārsātinot medijus ar vienlaicīgu vairāku tēmu, jautājumu vai sabiedrībai nebūtisku jaunumu komunikāciju, lai netraucētu komunikācijas regularitāti un nepārtrauktību.</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309871F6-1A8F-4CDE-A8C9-E43FD6341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31"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1" lang="lv-LV" sz="1600" spc="-1" strike="noStrike">
                <a:solidFill>
                  <a:srgbClr val="777777"/>
                </a:solidFill>
                <a:latin typeface="Verdana"/>
              </a:rPr>
              <a:t>„</a:t>
            </a:r>
            <a:r>
              <a:rPr b="1" lang="lv-LV" sz="1600" spc="-1" strike="noStrike">
                <a:solidFill>
                  <a:srgbClr val="777777"/>
                </a:solidFill>
                <a:latin typeface="Verdana"/>
              </a:rPr>
              <a:t>VP Market” izvirzāmie galvenie komunikācijas mērķi „P.R.A.E. Sabiedrisko attiecību” skatījumā</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Nostiprināt „VP Market” kā nozares līdera, dinamiska un mūsdienīga uzņēmuma tēlu;</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kcentēt, ka „VP Market” ir sociāli atbildīgs un valstiski domājošs uzņēmums;</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aaugstināt uzņēmuma prestižu, lai piesaistītu pircējus ar vidējiem un augstiem ienākumiem;</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Nostiprināt un pilnveidot attiecības ar mērķa medijiem un žurnālistiem;</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Nodrošināt atbalstu mārketinga pasākumiem.</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BC92F0C8-7705-49A1-BAC3-8D2BA9C5FC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33"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Galvenās komunikācijas auditorija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atērētāji, noteiktas mērķa grupas to vidū; </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iegādātāji un partneri;</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Lēmumu pieņēmēji;</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Darbinieki.</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85B394F1-12D0-49DC-A425-8F707ACB08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1391760"/>
            <a:ext cx="7557840" cy="4535640"/>
          </a:xfrm>
          <a:prstGeom prst="rect">
            <a:avLst/>
          </a:prstGeom>
          <a:noFill/>
          <a:ln w="0">
            <a:noFill/>
          </a:ln>
        </p:spPr>
        <p:txBody>
          <a:bodyPr lIns="90000" rIns="90000" tIns="46800" bIns="46800" anchor="t">
            <a:normAutofit/>
          </a:bodyPr>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gn="just">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ašlaik Latvijā dažādus sabiedrisko attiecību pakalpojumus piedāvā vairāk nekā 50 uzņēmumu.</a:t>
            </a:r>
            <a:endParaRPr b="1" lang="en-US" sz="1600" spc="-1" strike="noStrike">
              <a:solidFill>
                <a:srgbClr val="40458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799"/>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11 lielākās aģentūras ir apvienojušās Latvijas Sabiedrisko attiecību kompāniju asociācijā</a:t>
            </a:r>
            <a:r>
              <a:rPr b="0" lang="en-US" sz="1600" spc="-1" strike="noStrike">
                <a:solidFill>
                  <a:srgbClr val="777777"/>
                </a:solidFill>
                <a:latin typeface="Verdana"/>
              </a:rPr>
              <a:t>. </a:t>
            </a:r>
            <a:r>
              <a:rPr b="0" lang="lv-LV" sz="1600" spc="-1" strike="noStrike">
                <a:solidFill>
                  <a:srgbClr val="777777"/>
                </a:solidFill>
                <a:latin typeface="Verdana"/>
              </a:rPr>
              <a:t>Tirgus pētījumi rāda, ka asociācijā pārstāvēto aģentūru kopējā tirgus daļa ir apmēram 80%.</a:t>
            </a:r>
            <a:endParaRPr b="1" lang="en-US" sz="1600" spc="-1" strike="noStrike">
              <a:solidFill>
                <a:srgbClr val="40458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601"/>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r savu sešu gadu ilgo pieredzi šajā tirgū </a:t>
            </a:r>
            <a:r>
              <a:rPr b="0" i="1" lang="en-US" sz="1600" spc="-1" strike="noStrike">
                <a:solidFill>
                  <a:srgbClr val="777777"/>
                </a:solidFill>
                <a:latin typeface="Verdana"/>
              </a:rPr>
              <a:t>P.R.A.E. </a:t>
            </a:r>
            <a:r>
              <a:rPr b="0" i="1" lang="lv-LV" sz="1600" spc="-1" strike="noStrike">
                <a:solidFill>
                  <a:srgbClr val="777777"/>
                </a:solidFill>
                <a:latin typeface="Verdana"/>
              </a:rPr>
              <a:t>Sabiedriskās attiecības </a:t>
            </a:r>
            <a:r>
              <a:rPr b="0" lang="lv-LV" sz="1600" spc="-1" strike="noStrike">
                <a:solidFill>
                  <a:srgbClr val="777777"/>
                </a:solidFill>
                <a:latin typeface="Verdana"/>
              </a:rPr>
              <a:t>ieņem pārliecinošu pozīciju Latvijas lielāko un profesionālāko sabiedrisko attiecību aģentūru pirmajā piecniekā</a:t>
            </a:r>
            <a:r>
              <a:rPr b="0" lang="en-US" sz="1600" spc="-1" strike="noStrike">
                <a:solidFill>
                  <a:srgbClr val="777777"/>
                </a:solidFill>
                <a:latin typeface="Verdana"/>
              </a:rPr>
              <a:t>. </a:t>
            </a:r>
            <a:endParaRPr b="1" lang="en-US" sz="1600" spc="-1" strike="noStrike">
              <a:solidFill>
                <a:srgbClr val="40458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98" name="PlaceHolder 2"/>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Sabiedrisko</a:t>
            </a:r>
            <a:r>
              <a:rPr b="1" lang="lv-LV" sz="1600" spc="-1" strike="noStrike">
                <a:solidFill>
                  <a:srgbClr val="40458c"/>
                </a:solidFill>
                <a:latin typeface="Verdana"/>
              </a:rPr>
              <a:t> attiecību situācija Latvijā</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3EAE34AD-7698-40E8-B50F-E13BC6CE38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35"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Priekšlikumi komunikācijas pilnveidošanai</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Jaunumu savlaicīga noformulēšana un komunicēšana;</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ktīva notikumu „radīšana”, pasākumu izmantošana publicitātes veidošanai;</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Iespējamo tēmu noteikšana komentāriem (un ekspertu/formāli nesaistītu trešo personu) komentāri medijos;</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Runas personu loka noteikšana, kuri (sadarbībā ar preses sekretāru) pauž uzņēmuma viedokli, nepieciešamības gadījumā - runas personu mediju treniņš;</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Uzņēmuma vadības publiskā tēla mērķtiecīga veidošana;</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ētījumu veikšana un to prezentēšana žurnālistiem (piemēram, patērētāju ieradumu izmaiņas, pieprasījuma specifika reģionos u.t.t.);</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ttiecību pilnveidošana ar žurnālistiem;</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Nepārtraukts situācijas un masu mediju monitorings. </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FDBB04C8-297F-49AB-A3CB-91052944BF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37"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Komunikācijas mērķa kanāli</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Centrālie biznesa laikraksti („Dienas Bizness”; „Bizness&amp;Baltija”, „Kommersant Baltic);</a:t>
            </a: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Centrālie vispārējā satura laikraksti un to ekonomikas/reģionālo notikumu/karjeras rubrikas („Diena”, „Latvijas Avīze”, „Telegraf”, „Neatkarīgā Rīta Avīze”, „Vesti Sevodnja”, „Čas”);</a:t>
            </a: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Biznesa un specializētie žurnāli („Kapitāls”; „Agro Tops”; „Bilance”; „Saldo”);</a:t>
            </a: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Interneta portāli un ziņu aģentūras (LETA, BNS, „Delfi”, TVNET, FINANCENET, „Apollo”);</a:t>
            </a: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Reģionālie laikraksti;</a:t>
            </a: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Radio – Latvijas radio 1, Latvijas radio 4; Radio SWH u.c. komercradio; reģionālie radio;</a:t>
            </a: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TV (sasniedzami faktiski tikai valstisko problēmtēmu vai reģionālo piemēru gadījumos);</a:t>
            </a: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Sieviešu un dzīvesstila izdevumi.</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9E94070A-F986-4BE1-9903-1B0A459540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 </a:t>
            </a:r>
            <a:endParaRPr b="1" lang="en-US" sz="1600" spc="-1" strike="noStrike">
              <a:solidFill>
                <a:srgbClr val="40458c"/>
              </a:solidFill>
              <a:latin typeface="Verdana"/>
            </a:endParaRPr>
          </a:p>
        </p:txBody>
      </p:sp>
      <p:sp>
        <p:nvSpPr>
          <p:cNvPr id="139"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	</a:t>
            </a:r>
            <a:r>
              <a:rPr b="1" lang="lv-LV" sz="1600" spc="-1" strike="noStrike">
                <a:solidFill>
                  <a:srgbClr val="777777"/>
                </a:solidFill>
                <a:latin typeface="Verdana"/>
              </a:rPr>
              <a:t>Apdrošināšanas sabiedrības BTA ilgtermiņa PR programmas aprakst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devuma nosaukums</a:t>
            </a:r>
            <a:r>
              <a:rPr b="0" lang="lv-LV" sz="1600" spc="-1" strike="noStrike">
                <a:solidFill>
                  <a:srgbClr val="777777"/>
                </a:solidFill>
                <a:latin typeface="Verdana"/>
              </a:rPr>
              <a:t>: Apdrošināšanas sabiedrības BTA tēla veidošana un komunikācija (ilgtermiņa sadarbība)</a:t>
            </a: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Valsts</a:t>
            </a:r>
            <a:r>
              <a:rPr b="0" lang="lv-LV" sz="1600" spc="-1" strike="noStrike">
                <a:solidFill>
                  <a:srgbClr val="777777"/>
                </a:solidFill>
                <a:latin typeface="Verdana"/>
              </a:rPr>
              <a:t>: Latvija (no nākamā gada plānots caur P.R.A.E. koordinēt sabiedrisko attiecību aktivitātes arī Lietuvā).</a:t>
            </a: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ilsēta</a:t>
            </a:r>
            <a:r>
              <a:rPr b="0" lang="lv-LV" sz="1600" spc="-1" strike="noStrike">
                <a:solidFill>
                  <a:srgbClr val="777777"/>
                </a:solidFill>
                <a:latin typeface="Verdana"/>
              </a:rPr>
              <a:t>: Pamatā Rīga, kā arī citas Latvijas pilsētas konkrēto projektu ietvaros (Draudzīgā aicinājuma akcija, BTA dienas utt.)</a:t>
            </a: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ersonāla - mēnešu skaits, uzdevuma ilgums</a:t>
            </a:r>
            <a:r>
              <a:rPr b="0" lang="lv-LV" sz="1600" spc="-1" strike="noStrike">
                <a:solidFill>
                  <a:srgbClr val="777777"/>
                </a:solidFill>
                <a:latin typeface="Verdana"/>
              </a:rPr>
              <a:t>: ilgtermiņa sadarbība</a:t>
            </a: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Klienta vārds/nosaukums:</a:t>
            </a:r>
            <a:r>
              <a:rPr b="0" lang="lv-LV" sz="1600" spc="-1" strike="noStrike">
                <a:solidFill>
                  <a:srgbClr val="777777"/>
                </a:solidFill>
                <a:latin typeface="Verdana"/>
              </a:rPr>
              <a:t> BTA apdrošināšanas akciju sabiedrība</a:t>
            </a: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drese</a:t>
            </a:r>
            <a:r>
              <a:rPr b="0" lang="lv-LV" sz="1600" spc="-1" strike="noStrike">
                <a:solidFill>
                  <a:srgbClr val="777777"/>
                </a:solidFill>
                <a:latin typeface="Verdana"/>
              </a:rPr>
              <a:t>: Rīga, Valdemāra ielā 63.</a:t>
            </a: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sākšanas laiks:</a:t>
            </a:r>
            <a:r>
              <a:rPr b="0" lang="lv-LV" sz="1600" spc="-1" strike="noStrike">
                <a:solidFill>
                  <a:srgbClr val="777777"/>
                </a:solidFill>
                <a:latin typeface="Verdana"/>
              </a:rPr>
              <a:t> 2001.gads</a:t>
            </a: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abeigšanas laiks:</a:t>
            </a:r>
            <a:r>
              <a:rPr b="0" lang="lv-LV" sz="1600" spc="-1" strike="noStrike">
                <a:solidFill>
                  <a:srgbClr val="777777"/>
                </a:solidFill>
                <a:latin typeface="Verdana"/>
              </a:rPr>
              <a:t> turpinās joprojām</a:t>
            </a:r>
            <a:endParaRPr b="1" lang="en-US" sz="1600" spc="-1" strike="noStrike">
              <a:solidFill>
                <a:srgbClr val="40458c"/>
              </a:solidFill>
              <a:latin typeface="Verdana"/>
            </a:endParaRPr>
          </a:p>
          <a:p>
            <a:pPr marL="343080" indent="-34308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ptuvenā pakalpojuma vērtība:</a:t>
            </a:r>
            <a:r>
              <a:rPr b="0" lang="lv-LV" sz="1600" spc="-1" strike="noStrike">
                <a:solidFill>
                  <a:srgbClr val="777777"/>
                </a:solidFill>
                <a:latin typeface="Verdana"/>
              </a:rPr>
              <a:t> Ls 1100 mēnesī</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AD2B1A4D-70FF-4275-8A58-13CA129521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41" name="PlaceHolder 2"/>
          <p:cNvSpPr>
            <a:spLocks noGrp="1"/>
          </p:cNvSpPr>
          <p:nvPr>
            <p:ph/>
          </p:nvPr>
        </p:nvSpPr>
        <p:spPr>
          <a:xfrm>
            <a:off x="366480" y="1359000"/>
            <a:ext cx="8243640" cy="5145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	</a:t>
            </a:r>
            <a:r>
              <a:rPr b="0" i="1" lang="lv-LV" sz="1600" spc="-1" strike="noStrike">
                <a:solidFill>
                  <a:srgbClr val="777777"/>
                </a:solidFill>
                <a:latin typeface="Verdana"/>
              </a:rPr>
              <a:t>Projekta apraksts: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Sadarbība ar apdrošināšanas kompāniju BTA turpinās vairākus gadus, mērķtiecīgi veidojot un attīstot kompānijas tēlu. Sadarbības laikā BTA nostiprināja savas kā vadošās apdrošināšanas kompānijas pozīcijas uzņēmējdarbībā, turklāt sabiedrisko attiecību mērķtiecīgas īstenošanas rezultātā pilnīgi pārvērtās BTA tēls sabiedrības uztverē – uzsākot sadarbību, kompānija BTA, piemēram, medijos tika uztverta ar aizdomām un negāciju, savukārt patlaban tā ir viens no atzītākajiem un pieprasītākajiem ekspertiem. Izvērtējot darba rezultātus un stratēģiskās vajadzības, katram gadam tiek izvirzīti pamata mērķi, par 2005.gada mērķiem izvirzīts: Turpināt stratēģiski izsvērto reklāmas izvietošanu medijos, slēdzot PR līgumus ar medijiem, sadarbība ar kuriem sniedz atdevi un sasniedz BTA nepieciešamo auditoriju. Saglabāt mediju telpu un līdera tēlu pieaugošās konkurences apstākļos: Aktīvi ģenerēt jaunumus un ziņas, iekļauties aktuālajās tematikās, Monitorēt notikumus un mediju saturu, Savlaicīgi iekļauties ar BTA viedokli un virzīt informācijas plūsmu nepieciešamajā virzienā. Sadarboties (pēc iespējas) ar citiem apdrošinātājiem, Latvijas apdrošinātāju asociāciju un valsts institūcijām, jo nozares pozitīvs tēls un vienotu mērķu panākšana ir visas nozares interesēs. Sargāt reputāciju – mūsdienās nepieciešami arī preventīvi pasākumi, piemēram, darbinieku apmācība, lai izvairītos no krīzes situācijām, pēkšņiem un kaitīgiem skandāliem. Vienlaikus pielietot PR metodes uzņēmuma mārketingam, efektīvi informējot sabiedrību par BTA priekšrocībām un piedāvājumu.</a:t>
            </a:r>
            <a:endParaRPr b="1" lang="en-US" sz="1600" spc="-1" strike="noStrike">
              <a:solidFill>
                <a:srgbClr val="40458c"/>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AC7B5CB9-7B93-4C01-8AE2-F01720B6D5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360"/>
            <a:ext cx="7238880" cy="106668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43"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Nekustamo īpašumu kompānijas „Latio” melnbaltās fotogrāfijas atbalstīšanas projekta PR programmas apraksts</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devuma nosaukums</a:t>
            </a:r>
            <a:r>
              <a:rPr b="0" lang="lv-LV" sz="1600" spc="-1" strike="noStrike">
                <a:solidFill>
                  <a:srgbClr val="777777"/>
                </a:solidFill>
                <a:latin typeface="Verdana"/>
              </a:rPr>
              <a:t>: Nekustamo īpašumu kompānijas „Latio” melnbaltās fotogrāfijas vērtību saglabāšanas un atbalstīšanas projekts (ilgtermiņa sadarbīb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Valsts</a:t>
            </a:r>
            <a:r>
              <a:rPr b="0" lang="lv-LV" sz="1600" spc="-1" strike="noStrike">
                <a:solidFill>
                  <a:srgbClr val="777777"/>
                </a:solidFill>
                <a:latin typeface="Verdana"/>
              </a:rPr>
              <a:t>: Latvij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ilsēta</a:t>
            </a:r>
            <a:r>
              <a:rPr b="0" lang="lv-LV" sz="1600" spc="-1" strike="noStrike">
                <a:solidFill>
                  <a:srgbClr val="777777"/>
                </a:solidFill>
                <a:latin typeface="Verdana"/>
              </a:rPr>
              <a:t>: Atsevišķām projekta sadaļām – galvenokārt Rīga, citām – dažādi Latvijas pagasti un pilsētas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ersonāla - mēnešu skaits, uzdevuma ilgums</a:t>
            </a:r>
            <a:r>
              <a:rPr b="0" lang="lv-LV" sz="1600" spc="-1" strike="noStrike">
                <a:solidFill>
                  <a:srgbClr val="777777"/>
                </a:solidFill>
                <a:latin typeface="Verdana"/>
              </a:rPr>
              <a:t>: ilgtermiņa sadarbīb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Klienta vārds/nosaukums</a:t>
            </a:r>
            <a:r>
              <a:rPr b="0" lang="lv-LV" sz="1600" spc="-1" strike="noStrike">
                <a:solidFill>
                  <a:srgbClr val="777777"/>
                </a:solidFill>
                <a:latin typeface="Verdana"/>
              </a:rPr>
              <a:t>: Nekustamo īpašumu kompānija „Latio”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drese</a:t>
            </a:r>
            <a:r>
              <a:rPr b="0" lang="lv-LV" sz="1600" spc="-1" strike="noStrike">
                <a:solidFill>
                  <a:srgbClr val="777777"/>
                </a:solidFill>
                <a:latin typeface="Verdana"/>
              </a:rPr>
              <a:t>: Rīga, Raiņa bulv. 11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sākšanas laiks</a:t>
            </a:r>
            <a:r>
              <a:rPr b="0" lang="lv-LV" sz="1600" spc="-1" strike="noStrike">
                <a:solidFill>
                  <a:srgbClr val="777777"/>
                </a:solidFill>
                <a:latin typeface="Verdana"/>
              </a:rPr>
              <a:t>: 2004.gads</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abeigšanas laiks</a:t>
            </a:r>
            <a:r>
              <a:rPr b="0" lang="lv-LV" sz="1600" spc="-1" strike="noStrike">
                <a:solidFill>
                  <a:srgbClr val="777777"/>
                </a:solidFill>
                <a:latin typeface="Verdana"/>
              </a:rPr>
              <a:t>: turpinās joprojām</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ptuvenā pakalpojuma vērtība </a:t>
            </a:r>
            <a:r>
              <a:rPr b="0" lang="lv-LV" sz="1600" spc="-1" strike="noStrike">
                <a:solidFill>
                  <a:srgbClr val="777777"/>
                </a:solidFill>
                <a:latin typeface="Verdana"/>
              </a:rPr>
              <a:t>:Ls 2500 mēnesī</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FAE03430-7011-40CE-AB6C-FE18AC078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45"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	</a:t>
            </a:r>
            <a:r>
              <a:rPr b="0" i="1" lang="lv-LV" sz="1600" spc="-1" strike="noStrike">
                <a:solidFill>
                  <a:srgbClr val="777777"/>
                </a:solidFill>
                <a:latin typeface="Verdana"/>
              </a:rPr>
              <a:t>Projekta apraksts</a:t>
            </a: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Nekustamo īpašumu kompānija „Latio” pirms trim gadiem izlēma īstenot Latvijā vēl nebijušu privātu iniciatīvu, uzsākot nopietnu ilgtermiņa projektu melnbaltās fotogrāfijas attīstīšanai. Sākotnēji tika izdots tikai „Latio” kalendārs nākamajam gadam, kurā iekļauti Latvijas fotomākslinieku darbi, savukārt 2004.gadā sadarbībā ar Kultūras ministriju un Latvijas Fotogrāfijas muzeju tika uzsākta nozīmīga akcija vēsturisko foto vērtību apzināšanai un saglabāšanai, radot iespēju vēsturisko mantojumu parādīt plašākai sabiedrībai. Šī projekta ietvaros 2004.gada vasarā Strenčos tika atrasta un Latvijas Fotogrāfijas muzejam nodota 20.gs. pirmajā pusē tapusi stikla fotoplašu kolekcija, kuras apjoms tiek lēsts uz 4000 vai pat vairāk platēm – šī ir lielākā kolekcija, kas Latvijā atrasta vismaz pēdējo 10 gadu laikā. Līdzīgi arī šogad Latvijas Fotogrāfijas muzejam ar „Latio” palīdzību tika nodota fotoplašu kolekcija no Liepājas rajona. Kopš 2004.gada gan šo kultūrvēsturiski nozīmīgo vērtību apzināšanas, gan arī ikgadējo tradicionālā „Latio” kalendāra projektu virza un īsteno </a:t>
            </a:r>
            <a:r>
              <a:rPr b="0" i="1" lang="lv-LV" sz="1600" spc="-1" strike="noStrike">
                <a:solidFill>
                  <a:srgbClr val="777777"/>
                </a:solidFill>
                <a:latin typeface="Verdana"/>
              </a:rPr>
              <a:t>P.R.A.E. Sabiedriskās attiecības</a:t>
            </a:r>
            <a:r>
              <a:rPr b="0" lang="lv-LV" sz="1600" spc="-1" strike="noStrike">
                <a:solidFill>
                  <a:srgbClr val="777777"/>
                </a:solidFill>
                <a:latin typeface="Verdana"/>
              </a:rPr>
              <a:t>, izstrādājot mērķtiecīgu stratēģiju palīdzībai dažādām fotomākslas jomām, organizējot nopietnu žūriju kalendāra darbu atlasei, rīkojot izstādes un citus pasākumus gan Rīgā, gan citur Latvijā u.c. </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F434EE54-A1EF-4E60-8B30-FCD3899295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47"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777777"/>
                </a:solidFill>
                <a:latin typeface="Verdana"/>
              </a:rPr>
              <a:t>	</a:t>
            </a:r>
            <a:r>
              <a:rPr b="0" lang="lv-LV" sz="1600" spc="-1" strike="noStrike">
                <a:solidFill>
                  <a:srgbClr val="777777"/>
                </a:solidFill>
                <a:latin typeface="Verdana"/>
              </a:rPr>
              <a:t>Izvērtējot darba rezultātus un stratēģiskās vajadzības, katram gadam tiek izvirzīti pamata mērķi, par 2005.gada mērķiem izvirzīts: izdot ikgadējo tradicionālo „Latio” kalendāru, iekļaujot tajā jaunākās paaudzes fotomākslinieku darbus, tādējādi ļaujot viņus iepazīt plašākai publikai; turpināt vēsturisko foto vērtību apzināšanu un doto iespēju tās parādīt plašākai sabiedrībai: nodot Latvijas Fotogrāfijas muzejam jaunu stikla fotoplašu kolekciju no Liepājas raj. Rucavas, rīkot ceļojošo izstādi pa visiem Latvijas novadiem, kurā iespējams aplūkot daļu no pagājušajā gadā Strenčos atrastās kolekcijas, papildus lielajam ikgadējam kalendāram izdot mazāka formāta kalendāru ar Strenču vēsturiskajām fotogrāfijām; plānojot tālāku ilgtermiņa sadarbību, izstrādāt plānu ikgadējas fotogrāfijas balvas dibināšanai; popularizēt fotogrāfiju, sadarbībā ar Bērnu klīnisko universitātes slimnīcu iesaistot arī visjaunāko paaudzi – bērnus; aktualizēt diskusiju par privātās iniciatīvas nozīmi kultūras projektu atbalstīšanā. Minētajās aktivitātēs tiek iesaistīti gan fotogrāfu profesionālās vides pārstāvji, gan masu mediji, kā arī citi interesenti. Tiek nodrošināts regulārs mediju monitorings, apkopojot informāciju par pasākumu publicitāti.  </a:t>
            </a:r>
            <a:endParaRPr b="1" lang="en-US" sz="1600" spc="-1" strike="noStrike">
              <a:solidFill>
                <a:srgbClr val="40458c"/>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5703EE31-F607-45BC-8CE7-6714182C83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49" name="PlaceHolder 2"/>
          <p:cNvSpPr>
            <a:spLocks noGrp="1"/>
          </p:cNvSpPr>
          <p:nvPr>
            <p:ph/>
          </p:nvPr>
        </p:nvSpPr>
        <p:spPr>
          <a:xfrm>
            <a:off x="685800" y="1358640"/>
            <a:ext cx="7650000" cy="4724280"/>
          </a:xfrm>
          <a:prstGeom prst="rect">
            <a:avLst/>
          </a:prstGeom>
          <a:noFill/>
          <a:ln w="0">
            <a:noFill/>
          </a:ln>
        </p:spPr>
        <p:txBody>
          <a:bodyPr lIns="90000" rIns="90000" tIns="46800" bIns="46800" anchor="t">
            <a:normAutofit/>
          </a:bodyPr>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Būvkompānijas „Merks” ilgtermiņa PR programmas apraksts</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devuma nosaukums</a:t>
            </a:r>
            <a:r>
              <a:rPr b="0" lang="lv-LV" sz="1600" spc="-1" strike="noStrike">
                <a:solidFill>
                  <a:srgbClr val="777777"/>
                </a:solidFill>
                <a:latin typeface="Verdana"/>
              </a:rPr>
              <a:t>: Ilgtermiņa Sabiedrisko attiecību kampaņa </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SIA “Merks”</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Valsts</a:t>
            </a:r>
            <a:r>
              <a:rPr b="0" lang="lv-LV" sz="1600" spc="-1" strike="noStrike">
                <a:solidFill>
                  <a:srgbClr val="777777"/>
                </a:solidFill>
                <a:latin typeface="Verdana"/>
              </a:rPr>
              <a:t>: Latvija</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ilsēta</a:t>
            </a:r>
            <a:r>
              <a:rPr b="0" lang="lv-LV" sz="1600" spc="-1" strike="noStrike">
                <a:solidFill>
                  <a:srgbClr val="777777"/>
                </a:solidFill>
                <a:latin typeface="Verdana"/>
              </a:rPr>
              <a:t>: Rīga</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Klienta vārds/nosaukums</a:t>
            </a:r>
            <a:r>
              <a:rPr b="0" lang="lv-LV" sz="1600" spc="-1" strike="noStrike">
                <a:solidFill>
                  <a:srgbClr val="777777"/>
                </a:solidFill>
                <a:latin typeface="Verdana"/>
              </a:rPr>
              <a:t>: SIA „Merks”</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drese</a:t>
            </a:r>
            <a:r>
              <a:rPr b="0" lang="lv-LV" sz="1600" spc="-1" strike="noStrike">
                <a:solidFill>
                  <a:srgbClr val="777777"/>
                </a:solidFill>
                <a:latin typeface="Verdana"/>
              </a:rPr>
              <a:t>: Rīga, LV 1050, Skanstes iela 13 </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ersonāla - mēnešu skaits, uzdevuma ilgums</a:t>
            </a:r>
            <a:r>
              <a:rPr b="0" lang="lv-LV" sz="1600" spc="-1" strike="noStrike">
                <a:solidFill>
                  <a:srgbClr val="777777"/>
                </a:solidFill>
                <a:latin typeface="Verdana"/>
              </a:rPr>
              <a:t>: ilgtermiņa kampaņa</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sākšanas laiks</a:t>
            </a:r>
            <a:r>
              <a:rPr b="0" lang="lv-LV" sz="1600" spc="-1" strike="noStrike">
                <a:solidFill>
                  <a:srgbClr val="777777"/>
                </a:solidFill>
                <a:latin typeface="Verdana"/>
              </a:rPr>
              <a:t>: 04./2003.</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abeigšanas laiks: </a:t>
            </a:r>
            <a:r>
              <a:rPr b="0" lang="lv-LV" sz="1600" spc="-1" strike="noStrike">
                <a:solidFill>
                  <a:srgbClr val="777777"/>
                </a:solidFill>
                <a:latin typeface="Verdana"/>
              </a:rPr>
              <a:t>joprojām</a:t>
            </a:r>
            <a:endParaRPr b="1" lang="en-US" sz="1600" spc="-1" strike="noStrike">
              <a:solidFill>
                <a:srgbClr val="40458c"/>
              </a:solidFill>
              <a:latin typeface="Verdana"/>
            </a:endParaRPr>
          </a:p>
          <a:p>
            <a:pPr marL="41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ptuvenā pakalpojuma vērtība</a:t>
            </a:r>
            <a:r>
              <a:rPr b="0" lang="lv-LV" sz="1600" spc="-1" strike="noStrike">
                <a:solidFill>
                  <a:srgbClr val="777777"/>
                </a:solidFill>
                <a:latin typeface="Verdana"/>
              </a:rPr>
              <a:t>: Ls 1500 mēnesī</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79E12546-1935-4013-B161-B7BBCEEA24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51" name="PlaceHolder 2"/>
          <p:cNvSpPr>
            <a:spLocks noGrp="1"/>
          </p:cNvSpPr>
          <p:nvPr>
            <p:ph/>
          </p:nvPr>
        </p:nvSpPr>
        <p:spPr>
          <a:xfrm>
            <a:off x="423360" y="1358640"/>
            <a:ext cx="83314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500" spc="-1" strike="noStrike">
                <a:solidFill>
                  <a:srgbClr val="777777"/>
                </a:solidFill>
                <a:latin typeface="Verdana"/>
              </a:rPr>
              <a:t>	</a:t>
            </a:r>
            <a:r>
              <a:rPr b="0" i="1" lang="lv-LV" sz="1600" spc="-1" strike="noStrike">
                <a:solidFill>
                  <a:srgbClr val="777777"/>
                </a:solidFill>
                <a:latin typeface="Verdana"/>
              </a:rPr>
              <a:t>Projekta apraksts: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Uzsākot sadarbību ar SIA „Merks”, tika izvirzīti mērķi: Veidot būvfirmas kā liela un nopietna uzņēmuma, kurš strauji kļūst par vienu no nozares līderiem, tēlu; Savlaicīgi prognozēt, vadīt un atrisināt iespējamās komunikācijas krīzes; Palielināt „Merka” būvēto objektu un radīto „produktu” atpazīstamību, veicinot to pārdošanu; Uzsākt „Merka” kā sociāli atbildīgas kompānijas tēla veidošanu. Saskaņā ar izvirzītajiem mērķiem tiek veidota „Merka” publicitāte (ziņas, komentāri un replikas, intervijas un apraksti), uzsverot kompānijas spēju realizēt lielus un sarežģītus projektus, novatorismu un nestandarta risinājumus, darba kvalitāti, kā arī iepazīstinot ar būvfirmas speciālistiem kā profesionāļiem nozarē. Pašlaik „Merka” publicitāte pārliecinoši ir apjomīgākā starp celtniecības uzņēmumiem. Būtiski uzlabojusies mediju attieksme pret kompāniju. Sadarbības laikā sekmīgi veikta krīžu komunikācija „Hansabankas” centrālā biroja „Saules akmens” celtniecības sakarā, kā arī daudzfunkcionālās arēnas celtniecības sākuma posmā. Veiksmīga argumentācijas izvēle, komunikācija ar sabiedrību un amatpersonām ļāva radīt dominējošo viedokli, ka tā nav celtnieku atbildība, ka Rīgas domes dokumentācija par „Saules akmeni” ir dažādi traktējama, savukārt par arēnas būvdarbu uzsākšanu tika radīta maksimāla atklātība un iespēja žurnālistiem iepazīties ar būvdarbu gaitu un sekot līdzi grafikam, tā likvidējot bažas par nespēju laikā pabeigt būvdarbus. </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F23BAB34-0DC6-4B0F-8863-3608E0C117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53"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Projekta realizācijas laikā tiek sniegta plaša informācija par iespējām iegādāties privātložas un personālās vietas arēnā, par ēdināšanu, plānotajiem koncertiem, sporta un izklaides pasākumiem. Lai uzsāktu kompānijas kā sociāli atbildīga uzņēmuma tēla veidošanu, ir izstrādāts koncepts par atbalstu R.Paula ikgadējiem koncertiem jaunajā arēnā, kā arī Dziesmusvētku atbalsta programma. </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70A0D8D0-C89B-4E7E-8D35-E2BB96F4F7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6560" y="63360"/>
            <a:ext cx="7280280" cy="1067040"/>
          </a:xfrm>
          <a:prstGeom prst="rect">
            <a:avLst/>
          </a:prstGeom>
          <a:solidFill>
            <a:srgbClr val="ffffff"/>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Verdana"/>
              </a:rPr>
              <a:t>P</a:t>
            </a:r>
            <a:r>
              <a:rPr b="1" lang="lv-LV" sz="1600" spc="-1" strike="noStrike">
                <a:solidFill>
                  <a:srgbClr val="40458c"/>
                </a:solidFill>
                <a:latin typeface="Verdana"/>
              </a:rPr>
              <a:t>.</a:t>
            </a:r>
            <a:r>
              <a:rPr b="1" lang="en-US" sz="1600" spc="-1" strike="noStrike">
                <a:solidFill>
                  <a:srgbClr val="40458c"/>
                </a:solidFill>
                <a:latin typeface="Verdana"/>
              </a:rPr>
              <a:t>R</a:t>
            </a:r>
            <a:r>
              <a:rPr b="1" lang="lv-LV" sz="1600" spc="-1" strike="noStrike">
                <a:solidFill>
                  <a:srgbClr val="40458c"/>
                </a:solidFill>
                <a:latin typeface="Verdana"/>
              </a:rPr>
              <a:t>.</a:t>
            </a:r>
            <a:r>
              <a:rPr b="1" lang="en-US" sz="1600" spc="-1" strike="noStrike">
                <a:solidFill>
                  <a:srgbClr val="40458c"/>
                </a:solidFill>
                <a:latin typeface="Verdana"/>
              </a:rPr>
              <a:t>A</a:t>
            </a:r>
            <a:r>
              <a:rPr b="1" lang="lv-LV" sz="1600" spc="-1" strike="noStrike">
                <a:solidFill>
                  <a:srgbClr val="40458c"/>
                </a:solidFill>
                <a:latin typeface="Verdana"/>
              </a:rPr>
              <a:t>.</a:t>
            </a:r>
            <a:r>
              <a:rPr b="1" lang="en-US" sz="1600" spc="-1" strike="noStrike">
                <a:solidFill>
                  <a:srgbClr val="40458c"/>
                </a:solidFill>
                <a:latin typeface="Verdana"/>
              </a:rPr>
              <a:t>E</a:t>
            </a:r>
            <a:r>
              <a:rPr b="1" lang="lv-LV" sz="1600" spc="-1" strike="noStrike">
                <a:solidFill>
                  <a:srgbClr val="40458c"/>
                </a:solidFill>
                <a:latin typeface="Verdana"/>
              </a:rPr>
              <a:t>.</a:t>
            </a:r>
            <a:r>
              <a:rPr b="1" lang="en-US" sz="1600" spc="-1" strike="noStrike">
                <a:solidFill>
                  <a:srgbClr val="40458c"/>
                </a:solidFill>
                <a:latin typeface="Verdana"/>
              </a:rPr>
              <a:t> </a:t>
            </a:r>
            <a:r>
              <a:rPr b="1" lang="lv-LV" sz="1600" spc="-1" strike="noStrike">
                <a:solidFill>
                  <a:srgbClr val="40458c"/>
                </a:solidFill>
                <a:latin typeface="Verdana"/>
              </a:rPr>
              <a:t>Sabiedriskās attiecības</a:t>
            </a:r>
            <a:endParaRPr b="1" lang="en-US" sz="1600" spc="-1" strike="noStrike">
              <a:solidFill>
                <a:srgbClr val="40458c"/>
              </a:solidFill>
              <a:latin typeface="Verdana"/>
            </a:endParaRPr>
          </a:p>
        </p:txBody>
      </p:sp>
      <p:sp>
        <p:nvSpPr>
          <p:cNvPr id="100" name="PlaceHolder 2"/>
          <p:cNvSpPr>
            <a:spLocks noGrp="1"/>
          </p:cNvSpPr>
          <p:nvPr>
            <p:ph/>
          </p:nvPr>
        </p:nvSpPr>
        <p:spPr>
          <a:xfrm>
            <a:off x="684000" y="1595160"/>
            <a:ext cx="7924680" cy="4497480"/>
          </a:xfrm>
          <a:prstGeom prst="rect">
            <a:avLst/>
          </a:prstGeom>
          <a:noFill/>
          <a:ln w="0">
            <a:noFill/>
          </a:ln>
        </p:spPr>
        <p:txBody>
          <a:bodyPr lIns="90000" rIns="90000" tIns="46800" bIns="46800" anchor="t">
            <a:normAutofit/>
          </a:bodyPr>
          <a:p>
            <a:pPr marL="343080" indent="-343080">
              <a:spcBef>
                <a:spcPts val="601"/>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77777"/>
                </a:solidFill>
                <a:latin typeface="Verdana"/>
              </a:rPr>
              <a:t>P.R.A.E. </a:t>
            </a:r>
            <a:r>
              <a:rPr b="0" i="1" lang="lv-LV" sz="1600" spc="-1" strike="noStrike">
                <a:solidFill>
                  <a:srgbClr val="777777"/>
                </a:solidFill>
                <a:latin typeface="Verdana"/>
              </a:rPr>
              <a:t>Sabiedrisko attiecību </a:t>
            </a:r>
            <a:r>
              <a:rPr b="0" lang="lv-LV" sz="1600" spc="-1" strike="noStrike">
                <a:solidFill>
                  <a:srgbClr val="777777"/>
                </a:solidFill>
                <a:latin typeface="Verdana"/>
              </a:rPr>
              <a:t>kvalifikācija ir nodrošinājusi veiksmīgu sabiedrisko attiecību un integrēto mārketinga komunikāciju programmu organizēšanu un īstenošanu Latvijas un Baltijas mērogos.</a:t>
            </a:r>
            <a:endParaRPr b="1" lang="en-US" sz="1600" spc="-1" strike="noStrike">
              <a:solidFill>
                <a:srgbClr val="40458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601"/>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ģentūra</a:t>
            </a:r>
            <a:r>
              <a:rPr b="0" i="1" lang="lv-LV" sz="1600" spc="-1" strike="noStrike">
                <a:solidFill>
                  <a:srgbClr val="777777"/>
                </a:solidFill>
                <a:latin typeface="Verdana"/>
              </a:rPr>
              <a:t> </a:t>
            </a:r>
            <a:r>
              <a:rPr b="0" i="1" lang="en-US" sz="1600" spc="-1" strike="noStrike">
                <a:solidFill>
                  <a:srgbClr val="777777"/>
                </a:solidFill>
                <a:latin typeface="Verdana"/>
              </a:rPr>
              <a:t>P.R.A.E. </a:t>
            </a:r>
            <a:r>
              <a:rPr b="0" i="1" lang="lv-LV" sz="1600" spc="-1" strike="noStrike">
                <a:solidFill>
                  <a:srgbClr val="777777"/>
                </a:solidFill>
                <a:latin typeface="Verdana"/>
              </a:rPr>
              <a:t>Sabiedriskās attiecības </a:t>
            </a:r>
            <a:r>
              <a:rPr b="0" lang="lv-LV" sz="1600" spc="-1" strike="noStrike">
                <a:solidFill>
                  <a:srgbClr val="777777"/>
                </a:solidFill>
                <a:latin typeface="Verdana"/>
              </a:rPr>
              <a:t>ir uzkrājusi pieredzi, piedaloties projektos</a:t>
            </a:r>
            <a:r>
              <a:rPr b="0" lang="en-US" sz="1600" spc="-1" strike="noStrike">
                <a:solidFill>
                  <a:srgbClr val="777777"/>
                </a:solidFill>
                <a:latin typeface="Verdana"/>
              </a:rPr>
              <a:t> </a:t>
            </a:r>
            <a:r>
              <a:rPr b="0" lang="lv-LV" sz="1600" spc="-1" strike="noStrike">
                <a:solidFill>
                  <a:srgbClr val="777777"/>
                </a:solidFill>
                <a:latin typeface="Verdana"/>
              </a:rPr>
              <a:t>finanšu</a:t>
            </a:r>
            <a:r>
              <a:rPr b="0" lang="en-US" sz="1600" spc="-1" strike="noStrike">
                <a:solidFill>
                  <a:srgbClr val="777777"/>
                </a:solidFill>
                <a:latin typeface="Verdana"/>
              </a:rPr>
              <a:t>, </a:t>
            </a:r>
            <a:r>
              <a:rPr b="0" lang="lv-LV" sz="1600" spc="-1" strike="noStrike">
                <a:solidFill>
                  <a:srgbClr val="777777"/>
                </a:solidFill>
                <a:latin typeface="Verdana"/>
              </a:rPr>
              <a:t>nekustamā īpašuma</a:t>
            </a:r>
            <a:r>
              <a:rPr b="0" lang="en-US" sz="1600" spc="-1" strike="noStrike">
                <a:solidFill>
                  <a:srgbClr val="777777"/>
                </a:solidFill>
                <a:latin typeface="Verdana"/>
              </a:rPr>
              <a:t>, </a:t>
            </a:r>
            <a:r>
              <a:rPr b="0" lang="lv-LV" sz="1600" spc="-1" strike="noStrike">
                <a:solidFill>
                  <a:srgbClr val="777777"/>
                </a:solidFill>
                <a:latin typeface="Verdana"/>
              </a:rPr>
              <a:t>telekomunikāciju</a:t>
            </a:r>
            <a:r>
              <a:rPr b="0" lang="en-US" sz="1600" spc="-1" strike="noStrike">
                <a:solidFill>
                  <a:srgbClr val="777777"/>
                </a:solidFill>
                <a:latin typeface="Verdana"/>
              </a:rPr>
              <a:t>, </a:t>
            </a:r>
            <a:r>
              <a:rPr b="0" lang="lv-LV" sz="1600" spc="-1" strike="noStrike">
                <a:solidFill>
                  <a:srgbClr val="777777"/>
                </a:solidFill>
                <a:latin typeface="Verdana"/>
              </a:rPr>
              <a:t>pakalpojumu u.c. jomās, tā papildinot zināšanas</a:t>
            </a:r>
            <a:r>
              <a:rPr b="0" lang="en-US" sz="1600" spc="-1" strike="noStrike">
                <a:solidFill>
                  <a:srgbClr val="777777"/>
                </a:solidFill>
                <a:latin typeface="Verdana"/>
              </a:rPr>
              <a:t> </a:t>
            </a:r>
            <a:r>
              <a:rPr b="0" lang="lv-LV" sz="1600" spc="-1" strike="noStrike">
                <a:solidFill>
                  <a:srgbClr val="777777"/>
                </a:solidFill>
                <a:latin typeface="Verdana"/>
              </a:rPr>
              <a:t>par tirgu un uzlabojot un adaptējot sabiedrisko attiecību metodes plaša spektra problēmu risināšanā.</a:t>
            </a:r>
            <a:r>
              <a:rPr b="0" lang="en-US" sz="1600" spc="-1" strike="noStrike">
                <a:solidFill>
                  <a:srgbClr val="777777"/>
                </a:solidFill>
                <a:latin typeface="Verdana"/>
              </a:rPr>
              <a:t> </a:t>
            </a:r>
            <a:endParaRPr b="1" lang="en-US" sz="1600" spc="-1" strike="noStrike">
              <a:solidFill>
                <a:srgbClr val="40458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spcBef>
                <a:spcPts val="601"/>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Kopš 2003. gada </a:t>
            </a:r>
            <a:r>
              <a:rPr b="0" i="1" lang="lv-LV" sz="1600" spc="-1" strike="noStrike">
                <a:solidFill>
                  <a:srgbClr val="777777"/>
                </a:solidFill>
                <a:latin typeface="Verdana"/>
              </a:rPr>
              <a:t>P.R.A.E. Sabiedriskās attiecības</a:t>
            </a:r>
            <a:r>
              <a:rPr b="0" lang="lv-LV" sz="1600" spc="-1" strike="noStrike">
                <a:solidFill>
                  <a:srgbClr val="777777"/>
                </a:solidFill>
                <a:latin typeface="Verdana"/>
              </a:rPr>
              <a:t> darbojas starptautiskā sabiedrisko attiecību tīkla </a:t>
            </a:r>
            <a:r>
              <a:rPr b="0" i="1" lang="lv-LV" sz="1600" spc="-1" strike="noStrike">
                <a:solidFill>
                  <a:srgbClr val="777777"/>
                </a:solidFill>
                <a:latin typeface="Verdana"/>
              </a:rPr>
              <a:t>Media Consulta </a:t>
            </a:r>
            <a:r>
              <a:rPr b="0" lang="lv-LV" sz="1600" spc="-1" strike="noStrike">
                <a:solidFill>
                  <a:srgbClr val="777777"/>
                </a:solidFill>
                <a:latin typeface="Verdana"/>
              </a:rPr>
              <a:t>ietvaros.</a:t>
            </a:r>
            <a:endParaRPr b="1" lang="en-US" sz="1600" spc="-1" strike="noStrike">
              <a:solidFill>
                <a:srgbClr val="40458c"/>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016F99B6-D66B-4EA3-8E6F-C7CDFEFCA6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55"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a:t>
            </a:r>
            <a:r>
              <a:rPr b="1" lang="lv-LV" sz="1600" spc="-1" strike="noStrike">
                <a:solidFill>
                  <a:srgbClr val="777777"/>
                </a:solidFill>
                <a:latin typeface="Verdana"/>
              </a:rPr>
              <a:t>Mažeiķu Nafta” Tirdzniecības nams” ilgtermiņa PR programmas apraksts</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devuma nosaukums</a:t>
            </a:r>
            <a:r>
              <a:rPr b="0" lang="lv-LV" sz="1600" spc="-1" strike="noStrike">
                <a:solidFill>
                  <a:srgbClr val="777777"/>
                </a:solidFill>
                <a:latin typeface="Verdana"/>
              </a:rPr>
              <a:t>: „„Mažeiķu Nafta” Tirdzniecības nams” tēla veidošana un komunikācija (ilgtermiņa sadarbība)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Valsts</a:t>
            </a:r>
            <a:r>
              <a:rPr b="0" lang="lv-LV" sz="1600" spc="-1" strike="noStrike">
                <a:solidFill>
                  <a:srgbClr val="777777"/>
                </a:solidFill>
                <a:latin typeface="Verdana"/>
              </a:rPr>
              <a:t>: Latvij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ilsēta</a:t>
            </a:r>
            <a:r>
              <a:rPr b="0" lang="lv-LV" sz="1600" spc="-1" strike="noStrike">
                <a:solidFill>
                  <a:srgbClr val="777777"/>
                </a:solidFill>
                <a:latin typeface="Verdana"/>
              </a:rPr>
              <a:t>: Rīg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ersonāla - mēnešu skaits, uzdevuma ilgums</a:t>
            </a:r>
            <a:r>
              <a:rPr b="0" lang="lv-LV" sz="1600" spc="-1" strike="noStrike">
                <a:solidFill>
                  <a:srgbClr val="777777"/>
                </a:solidFill>
                <a:latin typeface="Verdana"/>
              </a:rPr>
              <a:t>: Ilgtermiņa sadarbība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Klienta vārds</a:t>
            </a:r>
            <a:r>
              <a:rPr b="0" lang="lv-LV" sz="1600" spc="-1" strike="noStrike">
                <a:solidFill>
                  <a:srgbClr val="777777"/>
                </a:solidFill>
                <a:latin typeface="Verdana"/>
              </a:rPr>
              <a:t>: „„Mažeiķu Nafta” Tirdzniecības nams”</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drese</a:t>
            </a:r>
            <a:r>
              <a:rPr b="0" lang="lv-LV" sz="1600" spc="-1" strike="noStrike">
                <a:solidFill>
                  <a:srgbClr val="777777"/>
                </a:solidFill>
                <a:latin typeface="Verdana"/>
              </a:rPr>
              <a:t>: Bauskas 58A, Rīga, LV – 1004, Latvij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sākšanas datums</a:t>
            </a:r>
            <a:r>
              <a:rPr b="0" lang="lv-LV" sz="1600" spc="-1" strike="noStrike">
                <a:solidFill>
                  <a:srgbClr val="777777"/>
                </a:solidFill>
                <a:latin typeface="Verdana"/>
              </a:rPr>
              <a:t>: 2004.gada novembris</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abeigšanas datums</a:t>
            </a:r>
            <a:r>
              <a:rPr b="0" lang="lv-LV" sz="1600" spc="-1" strike="noStrike">
                <a:solidFill>
                  <a:srgbClr val="777777"/>
                </a:solidFill>
                <a:latin typeface="Verdana"/>
              </a:rPr>
              <a:t>: turpinās joprojām</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ptuvenā pakalpojuma vērtība</a:t>
            </a:r>
            <a:r>
              <a:rPr b="0" lang="lv-LV" sz="1600" spc="-1" strike="noStrike">
                <a:solidFill>
                  <a:srgbClr val="777777"/>
                </a:solidFill>
                <a:latin typeface="Verdana"/>
              </a:rPr>
              <a:t>: Ls 1000 mēnesī</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9FB317D0-DC27-4700-80A5-71DC3BB403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57"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	</a:t>
            </a:r>
            <a:r>
              <a:rPr b="0" i="1" lang="lv-LV" sz="1600" spc="-1" strike="noStrike">
                <a:solidFill>
                  <a:srgbClr val="777777"/>
                </a:solidFill>
                <a:latin typeface="Verdana"/>
              </a:rPr>
              <a:t>Projekta apraksts</a:t>
            </a:r>
            <a:r>
              <a:rPr b="0" lang="lv-LV" sz="1600" spc="-1" strike="noStrike">
                <a:solidFill>
                  <a:srgbClr val="777777"/>
                </a:solidFill>
                <a:latin typeface="Verdana"/>
              </a:rPr>
              <a:t>:</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Sadarbība ar „„Mažeiķu Nafta” Tirdzniecības nams” (MNTN) virzīta, mērķtiecīgi veidojot un attīstot kompānijas un tās direktora Jāņa Blūma tēlu. Izvērtējot uzņēmuma rezultātus un stratēģiskās vajadzības, par sadarbības mērķiem izvirzīts: veicināt MNTN direktora Jāņa Blūma kā profesionāļa un uzņēmējdarbības eksperta publicitāti, veicināt MNTN direktora Jāņa Blūma kā personības publicitāti, monitorējot notikumus un mediju saturu, prognozēt krīzes situācijas MNTN un konsultēt to novēršanā, aktīvi iesaistīties krīzes situāciju risināšanā.  Sadarbības laikā organizētas publikācijas vadošajos nacionālajos un biznesa medijos –komentāri, viedokļi un diskusijas par naftas un naftas produktu nozares aktualitātēm, apraksti un intervijas, kas atklāj MNTN direktoru Jāni Blūmu kā personību un kā vadītāju - profesionāli, sniegtas konsultācijas krīzes situācijās, kas saistītas ar problēmām Latvijas naftas produktu tirgū. </a:t>
            </a:r>
            <a:endParaRPr b="1" lang="en-US" sz="1600" spc="-1" strike="noStrike">
              <a:solidFill>
                <a:srgbClr val="40458c"/>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47D39BE1-FE14-49E2-B0BC-C4E949F322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59"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Bankas „ NORD/LB Latvija” ilgtermiņa PR programmas apraksts</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devuma nosaukums</a:t>
            </a:r>
            <a:r>
              <a:rPr b="0" lang="lv-LV" sz="1600" spc="-1" strike="noStrike">
                <a:solidFill>
                  <a:srgbClr val="777777"/>
                </a:solidFill>
                <a:latin typeface="Verdana"/>
              </a:rPr>
              <a:t>: „NORD/LB Latvija” tēla veidošana un komunikācija (ilgtermiņa sadarbīb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Valsts</a:t>
            </a:r>
            <a:r>
              <a:rPr b="0" lang="lv-LV" sz="1600" spc="-1" strike="noStrike">
                <a:solidFill>
                  <a:srgbClr val="777777"/>
                </a:solidFill>
                <a:latin typeface="Verdana"/>
              </a:rPr>
              <a:t>: Latvij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ilsēta</a:t>
            </a:r>
            <a:r>
              <a:rPr b="0" lang="lv-LV" sz="1600" spc="-1" strike="noStrike">
                <a:solidFill>
                  <a:srgbClr val="777777"/>
                </a:solidFill>
                <a:latin typeface="Verdana"/>
              </a:rPr>
              <a:t>: Rīga un citas Latvijas pilsētas (atkarībā no konkrētā īstenotā projekta – piemēram, Saldus, Jelgava utt.)</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ersonāla - mēnešu skaits, uzdevuma ilgums:</a:t>
            </a:r>
            <a:r>
              <a:rPr b="0" lang="lv-LV" sz="1600" spc="-1" strike="noStrike">
                <a:solidFill>
                  <a:srgbClr val="777777"/>
                </a:solidFill>
                <a:latin typeface="Verdana"/>
              </a:rPr>
              <a:t> ilgtermiņa sadarbība kopš 2004.gada maij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Klienta vārds/nosaukums</a:t>
            </a:r>
            <a:r>
              <a:rPr b="0" lang="lv-LV" sz="1600" spc="-1" strike="noStrike">
                <a:solidFill>
                  <a:srgbClr val="777777"/>
                </a:solidFill>
                <a:latin typeface="Verdana"/>
              </a:rPr>
              <a:t>: Banka „NORD/LB Latvija” un tās struktūrvienības</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drese: </a:t>
            </a:r>
            <a:r>
              <a:rPr b="0" lang="lv-LV" sz="1600" spc="-1" strike="noStrike">
                <a:solidFill>
                  <a:srgbClr val="777777"/>
                </a:solidFill>
                <a:latin typeface="Verdana"/>
              </a:rPr>
              <a:t>Smilšu ielā 6, Rīga, Latvij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sākšanas laiks:</a:t>
            </a:r>
            <a:r>
              <a:rPr b="0" lang="lv-LV" sz="1600" spc="-1" strike="noStrike">
                <a:solidFill>
                  <a:srgbClr val="777777"/>
                </a:solidFill>
                <a:latin typeface="Verdana"/>
              </a:rPr>
              <a:t> 05/2004.g.</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abeigšanas laiks</a:t>
            </a:r>
            <a:r>
              <a:rPr b="0" lang="lv-LV" sz="1600" spc="-1" strike="noStrike">
                <a:solidFill>
                  <a:srgbClr val="777777"/>
                </a:solidFill>
                <a:latin typeface="Verdana"/>
              </a:rPr>
              <a:t>: joprojām</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ptuvenā pakalpojuma vērtība</a:t>
            </a:r>
            <a:r>
              <a:rPr b="0" lang="lv-LV" sz="1600" spc="-1" strike="noStrike">
                <a:solidFill>
                  <a:srgbClr val="777777"/>
                </a:solidFill>
                <a:latin typeface="Verdana"/>
              </a:rPr>
              <a:t>: Ls 1500 mēnesī</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52E4D717-B6DB-4738-B573-3441206555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61"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	</a:t>
            </a:r>
            <a:r>
              <a:rPr b="0" i="1" lang="lv-LV" sz="1600" spc="-1" strike="noStrike">
                <a:solidFill>
                  <a:srgbClr val="777777"/>
                </a:solidFill>
                <a:latin typeface="Verdana"/>
              </a:rPr>
              <a:t>Projekta apraksts</a:t>
            </a: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Par sadarbības mērķiem izvirzīts: „NORD/LB Latvija” atpazīstamības paaugstināšana, pozicionējot bankas vadību kā viedokļu līderi; Bankas popularitātes palielināšanas, pārdošanas apjomu atbalstīšana un veicināšana;  Bankas drošības indeksa uzlabošana; Kompānijas tēla veidošana: banka, kas ir izteikti atsaucīga klientam, balstīta uz klientu vajadzību dziļu izpratni, augsti kvalificētiem speciālistiem, individuālu pieeju, nevainojamu apkalpošanu, elastīgiem un klientiem draudzīgiem procesiem un tehnoloģijām. „NORD/LB Latvija” ir Latvijas banka ar vāciskas identitātes elementiem. </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FB66142E-1DBC-4534-998C-413881C33E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63"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a:t>
            </a:r>
            <a:r>
              <a:rPr b="1" lang="lv-LV" sz="1600" spc="-1" strike="noStrike">
                <a:solidFill>
                  <a:srgbClr val="777777"/>
                </a:solidFill>
                <a:latin typeface="Verdana"/>
              </a:rPr>
              <a:t>Samsung Electronics” pārstāvniecības Baltijā ilgtermiņa PR programmas apraksts</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devuma nosaukums</a:t>
            </a:r>
            <a:r>
              <a:rPr b="0" lang="lv-LV" sz="1600" spc="-1" strike="noStrike">
                <a:solidFill>
                  <a:srgbClr val="777777"/>
                </a:solidFill>
                <a:latin typeface="Verdana"/>
              </a:rPr>
              <a:t>: „Samsung Electronics” pārstāvniecības Baltijā tēla veidošana un produktu divīziju mārketinga aktivitāšu atbalsts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Valsts</a:t>
            </a:r>
            <a:r>
              <a:rPr b="0" lang="lv-LV" sz="1600" spc="-1" strike="noStrike">
                <a:solidFill>
                  <a:srgbClr val="777777"/>
                </a:solidFill>
                <a:latin typeface="Verdana"/>
              </a:rPr>
              <a:t>: Latvija, Lietuva, Igaunija</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ilsēta</a:t>
            </a:r>
            <a:r>
              <a:rPr b="0" lang="lv-LV" sz="1600" spc="-1" strike="noStrike">
                <a:solidFill>
                  <a:srgbClr val="777777"/>
                </a:solidFill>
                <a:latin typeface="Verdana"/>
              </a:rPr>
              <a:t>: Rīga, Viļņa, Tallina un citas Baltijas pilsētas (atkarībā no konkrētā īstenotā projekta – piemēram, Ventspils, Valmiera, Cēsis utt.)</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ersonāla - mēnešu skaits, uzdevuma ilgums:</a:t>
            </a:r>
            <a:r>
              <a:rPr b="0" lang="lv-LV" sz="1600" spc="-1" strike="noStrike">
                <a:solidFill>
                  <a:srgbClr val="777777"/>
                </a:solidFill>
                <a:latin typeface="Verdana"/>
              </a:rPr>
              <a:t> Sadarbība kopš 2005.gada marta.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Klienta vārds</a:t>
            </a:r>
            <a:r>
              <a:rPr b="0" lang="lv-LV" sz="1600" spc="-1" strike="noStrike">
                <a:solidFill>
                  <a:srgbClr val="777777"/>
                </a:solidFill>
                <a:latin typeface="Verdana"/>
              </a:rPr>
              <a:t>: Starptautiskās tehnoloģiju kompānijas  „Samsung Electronics” pārstāvniecība Baltijā un tās produktu divīzijas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drese: </a:t>
            </a:r>
            <a:r>
              <a:rPr b="0" lang="lv-LV" sz="1600" spc="-1" strike="noStrike">
                <a:solidFill>
                  <a:srgbClr val="777777"/>
                </a:solidFill>
                <a:latin typeface="Verdana"/>
              </a:rPr>
              <a:t>Alunāna iela 2, Rīga, Latvija</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Uzsākšanas datums:</a:t>
            </a:r>
            <a:r>
              <a:rPr b="0" lang="lv-LV" sz="1600" spc="-1" strike="noStrike">
                <a:solidFill>
                  <a:srgbClr val="777777"/>
                </a:solidFill>
                <a:latin typeface="Verdana"/>
              </a:rPr>
              <a:t> 03/2005.g.</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Pabeigšanas datums</a:t>
            </a:r>
            <a:r>
              <a:rPr b="0" lang="lv-LV" sz="1600" spc="-1" strike="noStrike">
                <a:solidFill>
                  <a:srgbClr val="777777"/>
                </a:solidFill>
                <a:latin typeface="Verdana"/>
              </a:rPr>
              <a:t>: turpinās joprojām</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Aptuvenā pakalpojuma vērtība</a:t>
            </a:r>
            <a:r>
              <a:rPr b="0" lang="lv-LV" sz="1600" spc="-1" strike="noStrike">
                <a:solidFill>
                  <a:srgbClr val="777777"/>
                </a:solidFill>
                <a:latin typeface="Verdana"/>
              </a:rPr>
              <a:t>: Ls 11300 mēnesī</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10D17DA6-F5DD-4003-8E13-3390557DB4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65" name="PlaceHolder 2"/>
          <p:cNvSpPr>
            <a:spLocks noGrp="1"/>
          </p:cNvSpPr>
          <p:nvPr>
            <p:ph/>
          </p:nvPr>
        </p:nvSpPr>
        <p:spPr>
          <a:xfrm>
            <a:off x="439200" y="1358640"/>
            <a:ext cx="817092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	</a:t>
            </a:r>
            <a:r>
              <a:rPr b="0" i="1" lang="lv-LV" sz="1600" spc="-1" strike="noStrike">
                <a:solidFill>
                  <a:srgbClr val="777777"/>
                </a:solidFill>
                <a:latin typeface="Verdana"/>
              </a:rPr>
              <a:t>Projekta apraksts</a:t>
            </a: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Sadarbība ar „Samsung Electronics” pārstāvniecību Baltijā tika uzsākta 2005. gada martā. Līdz sadarbības uzsākšanai „Samsung” zīmols asociējās galvenokārt ar kompānijas mārketinga un reklāmas aktivitātēm, uzņēmums sabiedrībā tika uztverts kā demokrātisks telekomunikāciju produktu ražotājs. </a:t>
            </a:r>
            <a:r>
              <a:rPr b="0" i="1" lang="lv-LV" sz="1600" spc="-1" strike="noStrike">
                <a:solidFill>
                  <a:srgbClr val="777777"/>
                </a:solidFill>
                <a:latin typeface="Verdana"/>
              </a:rPr>
              <a:t>P.R.A.E.</a:t>
            </a:r>
            <a:r>
              <a:rPr b="0" lang="lv-LV" sz="1600" spc="-1" strike="noStrike">
                <a:solidFill>
                  <a:srgbClr val="777777"/>
                </a:solidFill>
                <a:latin typeface="Verdana"/>
              </a:rPr>
              <a:t> un „Samsung” sadarbības laikā ir panākta plašāka kompānijas zīmola atpazīstamība. „Samsung” zīmols šobrīd plašākā sabiedrībā pazīstams pēc sporta un jaunatnes pasākumu atbalsta, radot atvērtas un plašu sabiedrības daļu uzrunājošas kompānijas tēlu. Veicot „Samsung” produktu divīziju mārketinga un reklāmas aktivitāšu atbalstu, pieaudzis kompānijas produktu prestižs: kompānijas produkti tiek pozicionēti kā biznesa, stila un ekskluzīvās klases multimediju tehnoloģijas, kas apvieno tehnoloģiskās novitātes un augstas klases dizainu. Par sadarbības mērķiem izvirzīti: „Samsung Electronics” pārstāvniecības Baltijā atpazīstamības paaugstināšana, pozicionējot kompāniju kā augstas kvalitātes multimediju produktu ražotāju; Kompānijas tēla veidošana – kompānijas zīmola popularizēšana un atpazīstamības veicināšana, veicot sporta, izglītības un kultūras sponsorēšanu un darbību korporatīvās sociālās atbildības jomā;  Kompānijas produktu divīziju mārketinga aktivitāšu atbalsts un produktu divīziju tēla nostiprināšana. </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809EDE3D-CFFA-4919-8792-4ECFD2E4E7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40458c"/>
                </a:solidFill>
                <a:latin typeface="Verdana"/>
              </a:rPr>
              <a:t>P.R.A.E. Sabiedrisko attiecību</a:t>
            </a:r>
            <a:r>
              <a:rPr b="1" lang="lv-LV" sz="1600" spc="-1" strike="noStrike">
                <a:solidFill>
                  <a:srgbClr val="40458c"/>
                </a:solidFill>
                <a:latin typeface="Verdana"/>
              </a:rPr>
              <a:t> veikto sabiedrisko attiecību kampaņu apraksti</a:t>
            </a:r>
            <a:endParaRPr b="1" lang="en-US" sz="1600" spc="-1" strike="noStrike">
              <a:solidFill>
                <a:srgbClr val="40458c"/>
              </a:solidFill>
              <a:latin typeface="Verdana"/>
            </a:endParaRPr>
          </a:p>
        </p:txBody>
      </p:sp>
      <p:sp>
        <p:nvSpPr>
          <p:cNvPr id="167"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a:t>
            </a:r>
            <a:r>
              <a:rPr b="0" lang="lv-LV" sz="1600" spc="-1" strike="noStrike">
                <a:solidFill>
                  <a:srgbClr val="777777"/>
                </a:solidFill>
                <a:latin typeface="Verdana"/>
              </a:rPr>
              <a:t>Samsung” tiek pozicionēta kā starptautiskā tehnoloģiju kompānija, kas nodrošina Premium kvalitātes multimediju produktus, apvienojot jaunākās tehnoloģiju iespējas un augstas klases dizainu un servisu. Aktivitātes sociālās atbildības un sponsorēšanas jomā. Kompānija tiek pozicionēta kā sociāli atbildīga kompānija ar plašā sabiedrībā populāra un atpazīstama zīmola identitāti, kas aktīvi atbalsta profesionālo sportu un izglītību un veicina mūsdienu jaunatnes progresīvās attīstības tendences.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5330A014-5A9D-4116-8B53-C0F8FB96E9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Krīzes komunikācijas piemēri</a:t>
            </a:r>
            <a:endParaRPr b="1" lang="en-US" sz="1600" spc="-1" strike="noStrike">
              <a:solidFill>
                <a:srgbClr val="40458c"/>
              </a:solidFill>
              <a:latin typeface="Verdana"/>
            </a:endParaRPr>
          </a:p>
        </p:txBody>
      </p:sp>
      <p:sp>
        <p:nvSpPr>
          <p:cNvPr id="169"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777777"/>
                </a:solidFill>
                <a:latin typeface="Verdana"/>
              </a:rPr>
              <a:t>Saules akmens</a:t>
            </a:r>
            <a:r>
              <a:rPr b="1" lang="lv-LV" sz="1600" spc="-1" strike="noStrike">
                <a:solidFill>
                  <a:srgbClr val="777777"/>
                </a:solidFill>
                <a:latin typeface="Verdana"/>
              </a:rPr>
              <a:t> ēkas celtniecība</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	</a:t>
            </a:r>
            <a:r>
              <a:rPr b="0" i="1" lang="lv-LV" sz="1600" spc="-1" strike="noStrike">
                <a:solidFill>
                  <a:srgbClr val="777777"/>
                </a:solidFill>
                <a:latin typeface="Verdana"/>
              </a:rPr>
              <a:t>Situācija:</a:t>
            </a: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2003.gada aprīlī, uzsākot </a:t>
            </a:r>
            <a:r>
              <a:rPr b="0" i="1" lang="lv-LV" sz="1600" spc="-1" strike="noStrike">
                <a:solidFill>
                  <a:srgbClr val="777777"/>
                </a:solidFill>
                <a:latin typeface="Verdana"/>
              </a:rPr>
              <a:t>Saules akmens</a:t>
            </a:r>
            <a:r>
              <a:rPr b="0" lang="lv-LV" sz="1600" spc="-1" strike="noStrike">
                <a:solidFill>
                  <a:srgbClr val="777777"/>
                </a:solidFill>
                <a:latin typeface="Verdana"/>
              </a:rPr>
              <a:t> sabiedrisko attiecību kampaņas izstrādi un īstenošanu, bija vērojama spēcīga negatīvas informācijas plūsma pret Saules akmeni, savukārt amatpersonu argumenti un mediju reakcija norādīja, ka nevienai no diskusijā iesaistītajām pusēm nav pārliecinošu un neapstrīdamu argumentu būvniecības likumībai vai nelikumībai. Reāla bija situācija, ka celtniecību var pārtraukt, iesaldēt vai likt būtiski mainīt ēkas projektu.</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777777"/>
                </a:solidFill>
                <a:latin typeface="Verdana"/>
              </a:rPr>
              <a:t>	</a:t>
            </a:r>
            <a:endParaRPr b="1" lang="en-US" sz="2200" spc="-1" strike="noStrike">
              <a:solidFill>
                <a:srgbClr val="40458c"/>
              </a:solidFill>
              <a:latin typeface="Verdana"/>
            </a:endParaRPr>
          </a:p>
        </p:txBody>
      </p:sp>
      <p:sp>
        <p:nvSpPr>
          <p:cNvPr id="4" name="PlaceHolder 3"/>
          <p:cNvSpPr>
            <a:spLocks noGrp="1"/>
          </p:cNvSpPr>
          <p:nvPr>
            <p:ph type="sldNum" idx="3"/>
          </p:nvPr>
        </p:nvSpPr>
        <p:spPr/>
        <p:txBody>
          <a:bodyPr/>
          <a:p>
            <a:fld id="{66353734-23DD-4667-B915-72384DB7B5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Krīzes komunikācijas piemēri</a:t>
            </a:r>
            <a:endParaRPr b="1" lang="en-US" sz="1600" spc="-1" strike="noStrike">
              <a:solidFill>
                <a:srgbClr val="40458c"/>
              </a:solidFill>
              <a:latin typeface="Verdana"/>
            </a:endParaRPr>
          </a:p>
        </p:txBody>
      </p:sp>
      <p:sp>
        <p:nvSpPr>
          <p:cNvPr id="171" name="PlaceHolder 2"/>
          <p:cNvSpPr>
            <a:spLocks noGrp="1"/>
          </p:cNvSpPr>
          <p:nvPr>
            <p:ph/>
          </p:nvPr>
        </p:nvSpPr>
        <p:spPr>
          <a:xfrm>
            <a:off x="730080" y="1344240"/>
            <a:ext cx="792504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Risinājums:</a:t>
            </a: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Kā sabiedrisko attiecību kampaņas stratēģiskie mērķi tika izvirzīti: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1) panākt, lai netiek apturēta </a:t>
            </a:r>
            <a:r>
              <a:rPr b="0" i="1" lang="lv-LV" sz="1600" spc="-1" strike="noStrike">
                <a:solidFill>
                  <a:srgbClr val="777777"/>
                </a:solidFill>
                <a:latin typeface="Verdana"/>
              </a:rPr>
              <a:t>Saules akmens </a:t>
            </a:r>
            <a:r>
              <a:rPr b="0" lang="lv-LV" sz="1600" spc="-1" strike="noStrike">
                <a:solidFill>
                  <a:srgbClr val="777777"/>
                </a:solidFill>
                <a:latin typeface="Verdana"/>
              </a:rPr>
              <a:t>celtniecība;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2) iespējami ātri maksimāli samazināt negatīvo publicitāti saistībā ar celtniecību;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3) panākt, lai tiktu atrasts praktiski īstenojams, visas iesaistītās puses apmierinošs problēmas risinājums.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Lai īstenotu šos mērķus, tika izvēlēti komunikācijas risinājumi: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1) mainīt komunikācijas galvenos virzienus un akcentus, izvirzot jaunas apspriežamās tēmas;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2) likvidēt informācijas trūkumus par projekta noderīgiem un pozitīviem aspektiem, tā būtību, kas ir nozīmīga un vajadzīga pilsētai;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3) iesaistot neitrālus projekta atbalstītājus, padarīt </a:t>
            </a:r>
            <a:r>
              <a:rPr b="0" i="1" lang="lv-LV" sz="1600" spc="-1" strike="noStrike">
                <a:solidFill>
                  <a:srgbClr val="777777"/>
                </a:solidFill>
                <a:latin typeface="Verdana"/>
              </a:rPr>
              <a:t>Saules akmens</a:t>
            </a:r>
            <a:r>
              <a:rPr b="0" lang="lv-LV" sz="1600" spc="-1" strike="noStrike">
                <a:solidFill>
                  <a:srgbClr val="777777"/>
                </a:solidFill>
                <a:latin typeface="Verdana"/>
              </a:rPr>
              <a:t> atbalsta kampaņu objektīvu, novēršot uzmanību no biznesa interesēm.</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 </a:t>
            </a:r>
            <a:r>
              <a:rPr b="0" lang="lv-LV" sz="1600" spc="-1" strike="noStrike">
                <a:solidFill>
                  <a:srgbClr val="777777"/>
                </a:solidFill>
                <a:latin typeface="Verdana"/>
              </a:rPr>
              <a:t>Veiksmīgi īstenojot šo uzstādījumu, krīze tika sekmīgi novērsta.</a:t>
            </a:r>
            <a:endParaRPr b="1" lang="en-US" sz="1600" spc="-1" strike="noStrike">
              <a:solidFill>
                <a:srgbClr val="40458c"/>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11C9DA58-A019-4DD7-8BCB-FA668EF526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Krīzes komunikācijas piemēri</a:t>
            </a:r>
            <a:endParaRPr b="1" lang="en-US" sz="1600" spc="-1" strike="noStrike">
              <a:solidFill>
                <a:srgbClr val="40458c"/>
              </a:solidFill>
              <a:latin typeface="Verdana"/>
            </a:endParaRPr>
          </a:p>
        </p:txBody>
      </p:sp>
      <p:sp>
        <p:nvSpPr>
          <p:cNvPr id="173"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Rīgas Attīstības plāna publiskā apspriešana</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	</a:t>
            </a:r>
            <a:r>
              <a:rPr b="0" i="1" lang="lv-LV" sz="1600" spc="-1" strike="noStrike">
                <a:solidFill>
                  <a:srgbClr val="777777"/>
                </a:solidFill>
                <a:latin typeface="Verdana"/>
              </a:rPr>
              <a:t>Situācija:</a:t>
            </a: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Ņemot vērā iepriekšējo pieredzi Rīgas attīstības plānojumu sabiedrisko apspriešanu organizēšanā, tika prognozēta jauna komunikācijas krīzes situācija – izpētot līdzšinējo pieredzi, </a:t>
            </a:r>
            <a:r>
              <a:rPr b="0" i="1" lang="lv-LV" sz="1600" spc="-1" strike="noStrike">
                <a:solidFill>
                  <a:srgbClr val="777777"/>
                </a:solidFill>
                <a:latin typeface="Verdana"/>
              </a:rPr>
              <a:t>P.R.A.E. Sabiedriskās attiecības </a:t>
            </a:r>
            <a:r>
              <a:rPr b="0" lang="lv-LV" sz="1600" spc="-1" strike="noStrike">
                <a:solidFill>
                  <a:srgbClr val="777777"/>
                </a:solidFill>
                <a:latin typeface="Verdana"/>
              </a:rPr>
              <a:t>prognozēja, ka šoreiz aktīvāki būs „zaļās” organizācijas, mazdārziņu īpašnieki, atsevišķi sabiedrībā pazīstami arhitekti, Valsts kultūras pieminekļu aizsardzības inspekcija, atsevišķi mediji. Turklāt bija jāņem vērā, ka šogad mainījusies domes vadība, tā ka negatīvs sabiedrības viedoklis un kritika varētu mazināt jaunās vadošās koalīcijas drosmi un apdraudēt plānu pieņemšanu galīgajā redakcijā.</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6AE3E893-456F-4E50-93A2-8E9DD7A5F2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3360"/>
            <a:ext cx="7238880" cy="1067040"/>
          </a:xfrm>
          <a:prstGeom prst="rect">
            <a:avLst/>
          </a:prstGeom>
          <a:solidFill>
            <a:srgbClr val="ffffff"/>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 </a:t>
            </a:r>
            <a:r>
              <a:rPr b="1" lang="lv-LV" sz="1600" spc="-1" strike="noStrike">
                <a:solidFill>
                  <a:srgbClr val="40458c"/>
                </a:solidFill>
                <a:latin typeface="Verdana"/>
              </a:rPr>
              <a:t>Apgrozījums</a:t>
            </a:r>
            <a:endParaRPr b="1" lang="en-US" sz="1600" spc="-1" strike="noStrike">
              <a:solidFill>
                <a:srgbClr val="40458c"/>
              </a:solidFill>
              <a:latin typeface="Verdana"/>
            </a:endParaRPr>
          </a:p>
        </p:txBody>
      </p:sp>
      <p:graphicFrame>
        <p:nvGraphicFramePr>
          <p:cNvPr id="102" name=""/>
          <p:cNvGraphicFramePr/>
          <p:nvPr/>
        </p:nvGraphicFramePr>
        <p:xfrm>
          <a:off x="457200" y="1406520"/>
          <a:ext cx="8426520" cy="4470480"/>
        </p:xfrm>
        <a:graphic>
          <a:graphicData uri="http://schemas.openxmlformats.org/presentationml/2006/ole">
            <p:oleObj progId="Excel.Sheet.12" r:id="rId1" spid="">
              <p:embed/>
              <p:pic>
                <p:nvPicPr>
                  <p:cNvPr id="103" name="" descr=""/>
                  <p:cNvPicPr/>
                  <p:nvPr/>
                </p:nvPicPr>
                <p:blipFill>
                  <a:blip r:embed="rId2"/>
                  <a:stretch/>
                </p:blipFill>
                <p:spPr>
                  <a:xfrm>
                    <a:off x="457200" y="1406520"/>
                    <a:ext cx="8426520" cy="4470480"/>
                  </a:xfrm>
                  <a:prstGeom prst="rect">
                    <a:avLst/>
                  </a:prstGeom>
                  <a:ln w="0">
                    <a:noFill/>
                  </a:ln>
                </p:spPr>
              </p:pic>
            </p:oleObj>
          </a:graphicData>
        </a:graphic>
      </p:graphicFrame>
      <p:sp>
        <p:nvSpPr>
          <p:cNvPr id="3" name="PlaceHolder 2"/>
          <p:cNvSpPr>
            <a:spLocks noGrp="1"/>
          </p:cNvSpPr>
          <p:nvPr>
            <p:ph type="sldNum" idx="3"/>
          </p:nvPr>
        </p:nvSpPr>
        <p:spPr/>
        <p:txBody>
          <a:bodyPr/>
          <a:p>
            <a:fld id="{B735C695-2425-4351-A166-F27ACA3D3D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Krīzes komunikācijas piemēri</a:t>
            </a:r>
            <a:endParaRPr b="1" lang="en-US" sz="1600" spc="-1" strike="noStrike">
              <a:solidFill>
                <a:srgbClr val="40458c"/>
              </a:solidFill>
              <a:latin typeface="Verdana"/>
            </a:endParaRPr>
          </a:p>
        </p:txBody>
      </p:sp>
      <p:sp>
        <p:nvSpPr>
          <p:cNvPr id="175"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777777"/>
                </a:solidFill>
                <a:latin typeface="Verdana"/>
              </a:rPr>
              <a:t>	</a:t>
            </a:r>
            <a:r>
              <a:rPr b="0" i="1" lang="lv-LV" sz="1600" spc="-1" strike="noStrike">
                <a:solidFill>
                  <a:srgbClr val="777777"/>
                </a:solidFill>
                <a:latin typeface="Verdana"/>
              </a:rPr>
              <a:t>Risinājums: </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Pirms sabiedriskās apspriešanas tika izvērtēta iepriekšējā pieredze (iepriekšējās apspriešanas publikācijas drukātajos medijos), apzināti iespējamie problēmjautājumi, iespējamās atbildes un komentāri uz tiem. Lai iedzīvotājiem skaidrotu apspriežamo dokumentu būtību, tika izveidots informatīvs buklets, kas plaši izplatīts visā Rīgā. Sabiedrisko attiecību kampaņas laikā gan mediju pasākumos, gan dažādos forumos un sanāksmēs ar dažādām iedzīvotāju grupām tika sniegti plaši profesionāļu skaidrojumi par visdažādākajiem jautājumiem, galveno uzmanību vēršot uz izmaiņām salīdzinot ar plānu iepriekšējo redakciju. Tika organizēti dažādu nozaru pārstāvju (būvnieku, arhitektu) komentāri, skaidrojot plāna galveno uzdevumu un prognozējot Rīgas turpmāko attīstību pēc plānu pieņemšanas. Plānu izvērtēšanā piesaistīti arī ārvalstu eksperti – pilsētas plānošanas profesionāļi no visas pasaules, kuru atzinīgais vērtējums vēlāk izmantots argumentējot atsevišķas plāna sadaļas politiķiem un medijiem. </a:t>
            </a:r>
            <a:endParaRPr b="1" lang="en-US" sz="1600" spc="-1" strike="noStrike">
              <a:solidFill>
                <a:srgbClr val="40458c"/>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6B444B15-F32C-42FC-82B9-9280848994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Krīzes komunikācijas piemēri</a:t>
            </a:r>
            <a:endParaRPr b="1" lang="en-US" sz="1600" spc="-1" strike="noStrike">
              <a:solidFill>
                <a:srgbClr val="40458c"/>
              </a:solidFill>
              <a:latin typeface="Verdana"/>
            </a:endParaRPr>
          </a:p>
        </p:txBody>
      </p:sp>
      <p:sp>
        <p:nvSpPr>
          <p:cNvPr id="177"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Individuālās apkures sistēmu „legalizācij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i="1" lang="lv-LV" sz="1600" spc="-1" strike="noStrike">
                <a:solidFill>
                  <a:srgbClr val="777777"/>
                </a:solidFill>
                <a:latin typeface="Verdana"/>
              </a:rPr>
              <a:t>Situācij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Sakarā ar Rīgas domes pārstāvju nostāju un varbūtējām izmaiņām Enerģētikas likumā tika prognozēts, ka iespējams pilnīgs aizliegums lielākajā Rīgas daļā uzstādīt individuālās apkures iekārtas – „gāzes katlus”. Līdz ar to nopietni apdraudēts kļuva lielāko individuālo gāzes apkures iekārtu piegādātāju un servisa uzņēmumu pamatdarbības veids.</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0104219C-FB06-4328-9213-6A62DCDFC4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Krīzes komunikācijas piemēri</a:t>
            </a:r>
            <a:endParaRPr b="1" lang="en-US" sz="1600" spc="-1" strike="noStrike">
              <a:solidFill>
                <a:srgbClr val="40458c"/>
              </a:solidFill>
              <a:latin typeface="Verdana"/>
            </a:endParaRPr>
          </a:p>
        </p:txBody>
      </p:sp>
      <p:sp>
        <p:nvSpPr>
          <p:cNvPr id="179"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	</a:t>
            </a:r>
            <a:r>
              <a:rPr b="0" i="1" lang="lv-LV" sz="1600" spc="-1" strike="noStrike">
                <a:solidFill>
                  <a:srgbClr val="777777"/>
                </a:solidFill>
                <a:latin typeface="Verdana"/>
              </a:rPr>
              <a:t>Risinājums:</a:t>
            </a:r>
            <a:r>
              <a:rPr b="0" lang="lv-LV" sz="1600" spc="-1" strike="noStrike">
                <a:solidFill>
                  <a:srgbClr val="777777"/>
                </a:solidFill>
                <a:latin typeface="Verdana"/>
              </a:rPr>
              <a:t> </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Tika veikta gadu ilga komunikācijas kampaņa, organizējot:</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1) trešo personu komentāru, repliku, viedokļu plūsmu drukātajos, elektroniskajos medijos, </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2) uz viedokļu līderiem, amatpersonām vērstu komunikāciju, plaši informējot par būvniecību (akcentējot argumentus par labu tās likumībai un loģiskai turpināšanai) personiski adresētos vēstījumos, </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3) neitrālu atbalstītāju piesaisti (RTU, Latvijas Būvnieku asociācija) sadarbībai objektīvu atbalsta akciju rīkošanai. </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Rezultātā Rīgas domes pārstāvju nostāja tika mainīta, tika arī pieņemti labvēlīgi Enerģētikas likuma grozījumi, neaizliedzot individuālo apkures iekārtu uzstādīšanu arī Rīgas lielākajā daļā.</a:t>
            </a:r>
            <a:endParaRPr b="1" lang="en-US" sz="1600" spc="-1" strike="noStrike">
              <a:solidFill>
                <a:srgbClr val="40458c"/>
              </a:solidFill>
              <a:latin typeface="Verdana"/>
            </a:endParaRPr>
          </a:p>
          <a:p>
            <a:pPr marL="41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EF4C47F6-57D4-4BE0-A72D-92F5870735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Krīzes komunikācijas piemēri</a:t>
            </a:r>
            <a:endParaRPr b="1" lang="en-US" sz="1600" spc="-1" strike="noStrike">
              <a:solidFill>
                <a:srgbClr val="40458c"/>
              </a:solidFill>
              <a:latin typeface="Verdana"/>
            </a:endParaRPr>
          </a:p>
        </p:txBody>
      </p:sp>
      <p:sp>
        <p:nvSpPr>
          <p:cNvPr id="181"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777777"/>
                </a:solidFill>
                <a:latin typeface="Verdana"/>
              </a:rPr>
              <a:t>Latvenergo</a:t>
            </a:r>
            <a:r>
              <a:rPr b="1" lang="lv-LV" sz="1600" spc="-1" strike="noStrike">
                <a:solidFill>
                  <a:srgbClr val="777777"/>
                </a:solidFill>
                <a:latin typeface="Verdana"/>
              </a:rPr>
              <a:t> prezidenta atkārtota apstiprināšana amatā un </a:t>
            </a:r>
            <a:r>
              <a:rPr b="1" i="1" lang="lv-LV" sz="1600" spc="-1" strike="noStrike">
                <a:solidFill>
                  <a:srgbClr val="777777"/>
                </a:solidFill>
                <a:latin typeface="Verdana"/>
              </a:rPr>
              <a:t>Latvenergo</a:t>
            </a:r>
            <a:r>
              <a:rPr b="1" lang="lv-LV" sz="1600" spc="-1" strike="noStrike">
                <a:solidFill>
                  <a:srgbClr val="777777"/>
                </a:solidFill>
                <a:latin typeface="Verdana"/>
              </a:rPr>
              <a:t> elektroenerģijas tarifu paaugstināšana</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Situācija:</a:t>
            </a: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Pirmajā no krīzes situācijām politisku apstākļu dēļ bija radušies reāli draudi VAS </a:t>
            </a:r>
            <a:r>
              <a:rPr b="0" i="1" lang="lv-LV" sz="1600" spc="-1" strike="noStrike">
                <a:solidFill>
                  <a:srgbClr val="777777"/>
                </a:solidFill>
                <a:latin typeface="Verdana"/>
              </a:rPr>
              <a:t>Latvenergo</a:t>
            </a:r>
            <a:r>
              <a:rPr b="0" lang="lv-LV" sz="1600" spc="-1" strike="noStrike">
                <a:solidFill>
                  <a:srgbClr val="777777"/>
                </a:solidFill>
                <a:latin typeface="Verdana"/>
              </a:rPr>
              <a:t> prezidenta Kārļa Miķelsona palikšanai ieņemamajā amatā, otrajā – tika veikta masveida kampaņa pret uzņēmuma plānoto elektroenerģijas piegādes tarifu paaugstināšanu, kas bija vitāli svarīga uzņēmuma nākotnei.</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Risinājums:</a:t>
            </a: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Izmantojot visu sabiedrisko attiecību instrumentāriju (darbs ar medijiem, trešo personu un ekspertu piesaistīšana, utt.), pirmajā gadījumā tika panākta K. Miķelsonam negatīvās informācijas plūsmas samazināšanās (kā rezultātā </a:t>
            </a:r>
            <a:r>
              <a:rPr b="0" i="1" lang="lv-LV" sz="1600" spc="-1" strike="noStrike">
                <a:solidFill>
                  <a:srgbClr val="777777"/>
                </a:solidFill>
                <a:latin typeface="Verdana"/>
              </a:rPr>
              <a:t>Latvenergo</a:t>
            </a:r>
            <a:r>
              <a:rPr b="0" lang="lv-LV" sz="1600" spc="-1" strike="noStrike">
                <a:solidFill>
                  <a:srgbClr val="777777"/>
                </a:solidFill>
                <a:latin typeface="Verdana"/>
              </a:rPr>
              <a:t> prezidents palika amatā vēl uz trim gadiem), bet otrajā tika rasti pārliecinoši argumenti par labu tarifu paaugstināšanai, kā rezultātā sabiedrisko pakalpojumu regulators apstiprināja </a:t>
            </a:r>
            <a:r>
              <a:rPr b="0" i="1" lang="lv-LV" sz="1600" spc="-1" strike="noStrike">
                <a:solidFill>
                  <a:srgbClr val="777777"/>
                </a:solidFill>
                <a:latin typeface="Verdana"/>
              </a:rPr>
              <a:t>Latvenergo</a:t>
            </a:r>
            <a:r>
              <a:rPr b="0" lang="lv-LV" sz="1600" spc="-1" strike="noStrike">
                <a:solidFill>
                  <a:srgbClr val="777777"/>
                </a:solidFill>
                <a:latin typeface="Verdana"/>
              </a:rPr>
              <a:t> iesniegto tarifu paaugstināšanas projektu.</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94ADDBBB-D9CB-4B1F-8730-21B31AABD4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Krīzes komunikācijas piemēri</a:t>
            </a:r>
            <a:endParaRPr b="1" lang="en-US" sz="1600" spc="-1" strike="noStrike">
              <a:solidFill>
                <a:srgbClr val="40458c"/>
              </a:solidFill>
              <a:latin typeface="Verdana"/>
            </a:endParaRPr>
          </a:p>
        </p:txBody>
      </p:sp>
      <p:sp>
        <p:nvSpPr>
          <p:cNvPr id="183"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Izklaides centra </a:t>
            </a:r>
            <a:r>
              <a:rPr b="1" i="1" lang="lv-LV" sz="1600" spc="-1" strike="noStrike">
                <a:solidFill>
                  <a:srgbClr val="777777"/>
                </a:solidFill>
                <a:latin typeface="Verdana"/>
              </a:rPr>
              <a:t>Go Planet</a:t>
            </a:r>
            <a:r>
              <a:rPr b="1" lang="lv-LV" sz="1600" spc="-1" strike="noStrike">
                <a:solidFill>
                  <a:srgbClr val="777777"/>
                </a:solidFill>
                <a:latin typeface="Verdana"/>
              </a:rPr>
              <a:t> celtniecība</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i="1" lang="lv-LV" sz="1600" spc="-1" strike="noStrike">
                <a:solidFill>
                  <a:srgbClr val="777777"/>
                </a:solidFill>
                <a:latin typeface="Verdana"/>
              </a:rPr>
              <a:t>Situācija: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Sadarbība ar SIA „LADEKO” uzsākta 2005.gada maijā, kad ap uzņēmuma realizēto projektu – topošo izklaides centru „Go Planet” – un pašu uzņēmumu bija izveidojusies izteikti negatīva rezonanse. Pamatpārmetumi bija saistīti ar koku izciršanu, it kā nelikumīgu vai aizdomīgu atļaujas saņemšanu, īpašnieku vārdiem, kuru personības bija pazīstamas, līdz ar to radīja papildu kārdinājumu aizdomas apspriest medijos atkal un atkal no jauna. Situācijas analīze liecināja, ka mediji un sabiedrība nav informēti un nemēģina uzzināt par realizējamā projekta pozitīvām pusēm, kas izdevīgas visas pilsētas un pat valsts mērogos. Situāciju sarežģīja arī fakts, ka pazīstamie īpašnieku uzvārdi radīja papildu iemeslu regulāri atgādināt par aizdomām. Turklāt sava loma bija arī Latvijā pagaidām tradicionālajai sākotnēji beznosacījuma negatīvajai attieksmei pret jebkuru jaunu celtni, projektu. </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A9C49D6D-4E06-45D2-B4B2-7B9BD14F59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Krīzes komunikācijas piemēri</a:t>
            </a:r>
            <a:endParaRPr b="1" lang="en-US" sz="1600" spc="-1" strike="noStrike">
              <a:solidFill>
                <a:srgbClr val="40458c"/>
              </a:solidFill>
              <a:latin typeface="Verdana"/>
            </a:endParaRPr>
          </a:p>
        </p:txBody>
      </p:sp>
      <p:sp>
        <p:nvSpPr>
          <p:cNvPr id="185"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i="1" lang="lv-LV" sz="1600" spc="-1" strike="noStrike">
                <a:solidFill>
                  <a:srgbClr val="777777"/>
                </a:solidFill>
                <a:latin typeface="Verdana"/>
              </a:rPr>
              <a:t>Risinājums: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Kā sabiedrisko attiecību kampaņas stratēģiskie mērķi tika izvirzīts:</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	</a:t>
            </a:r>
            <a:r>
              <a:rPr b="0" lang="lv-LV" sz="1600" spc="-1" strike="noStrike">
                <a:solidFill>
                  <a:srgbClr val="777777"/>
                </a:solidFill>
                <a:latin typeface="Verdana"/>
              </a:rPr>
              <a:t>1) panākt, lai aizdomu tēma par iespējami nelikumīgo koku izciršanu medijos kļūtu neaktuāla un vairs neparādītos;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2) regulāri komunicēt sabiedrībai interesantas, svarīgas un pozitīvas ziņas par topošo centru „Go Planet”;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3) komunicēt „LADEKO” pārstāvju kā sabiedrībā pazīstamu cilvēku un ekspertu viedokļus par dažādām sabiedrībai interesantām un svarīgām tēmām, lai nostiprinātu viņu atpazīstamību saistībā ar pozitīvām un neitrālām tēmām. </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Rezultātā projekts jau faktiski pabeigts, mediju attieksme ir caurmērā pozitīva, koku izciršana saistībā ar projektu vairs faktiski netiek pieminēta.</a:t>
            </a:r>
            <a:endParaRPr b="1" lang="en-US" sz="1600" spc="-1" strike="noStrike">
              <a:solidFill>
                <a:srgbClr val="40458c"/>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751F845D-170B-4975-B18D-A37EC4D76E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Sadarbības apmaksas modelis</a:t>
            </a:r>
            <a:endParaRPr b="1" lang="en-US" sz="1600" spc="-1" strike="noStrike">
              <a:solidFill>
                <a:srgbClr val="40458c"/>
              </a:solidFill>
              <a:latin typeface="Verdana"/>
            </a:endParaRPr>
          </a:p>
        </p:txBody>
      </p:sp>
      <p:sp>
        <p:nvSpPr>
          <p:cNvPr id="187"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Sabiedrisko attiecību aģentūra „P.R.A.E. Sabiedriskās attiecības” sadarbību ar saviem klientiem veic pēc vairākiem elastīgiem apmaksas modeļiem.</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Šo modeļu vienojošie principi ir atbilstība projekta specifikai un klienta vēlmēm.</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0A54966B-DE34-46BE-98B4-290119462D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11. Sadarbības apmaksas modelis</a:t>
            </a:r>
            <a:endParaRPr b="1" lang="en-US" sz="1600" spc="-1" strike="noStrike">
              <a:solidFill>
                <a:srgbClr val="40458c"/>
              </a:solidFill>
              <a:latin typeface="Verdana"/>
            </a:endParaRPr>
          </a:p>
        </p:txBody>
      </p:sp>
      <p:sp>
        <p:nvSpPr>
          <p:cNvPr id="189"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1. modelis – darbs pēc aģentūras stundu likmēm:</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41904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irms darba uzsākšanas ar klientu tiek panākta vienošanās par provizorisko kopējā darba apjomu, kura, būtiski mainoties apstākļiem, var tikt modificēta, abām pusēm vienojoties;</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41904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rojekta laikā tiek iesniegtas regulāras atskaites par paveiktā darba apjomu un rezultātiem;</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41904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ēc projekta, tā posma, katra kalendārā mēneša vai cita atskaites posma beigām tiek iesniegta galīgā atskaite un tāme;</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419040" indent="-419040">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ēc tam, kad klients apstiprina galīgo atskaiti un tāmi, tiek izrakstīts rēķins.</a:t>
            </a:r>
            <a:endParaRPr b="1" lang="en-US" sz="1600" spc="-1" strike="noStrike">
              <a:solidFill>
                <a:srgbClr val="40458c"/>
              </a:solidFill>
              <a:latin typeface="Verdana"/>
            </a:endParaRPr>
          </a:p>
          <a:p>
            <a:pPr marL="41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249FABB2-FFAE-4718-ADEF-451FD64FF6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11. Sadarbības apmaksas modelis</a:t>
            </a:r>
            <a:endParaRPr b="1" lang="en-US" sz="1600" spc="-1" strike="noStrike">
              <a:solidFill>
                <a:srgbClr val="40458c"/>
              </a:solidFill>
              <a:latin typeface="Verdana"/>
            </a:endParaRPr>
          </a:p>
        </p:txBody>
      </p:sp>
      <p:sp>
        <p:nvSpPr>
          <p:cNvPr id="191"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2. modelis – darbs pēc fiksēta ikmēneša budžeta („agency fee”):</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klients un aģentūra, ņemot vērā prognozējamā ilgtermiņa darba apjomu un aģentūras stundu likmes, nosaka ikmēneša aģentūras maksu;</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ģentūra šādā gadījumā nodrošina klientam atlaides no stundu likmēm līdz 20%;</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katra atskaites posma beigās klientam tiek iesniegta atskaite par paveiktā darba apjomu un rezultātiem;</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ēc atskaites apstiprināšanas tiek izrakstīts rēķins par iepriekš noteikti aģentūras mēneša maksu;</a:t>
            </a:r>
            <a:endParaRPr b="1" lang="en-US" sz="1600" spc="-1" strike="noStrike">
              <a:solidFill>
                <a:srgbClr val="40458c"/>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9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ja ilgākas sadarbības laikā paveiktā darba apjoms regulāri pārsniedz vai nesasniedz aģentūras mēneša maksas apjomu, aģentūra un klients var vienoties par jaunas mēneša maksas noteikšanu.</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04137B01-1E50-4E31-BD93-7354B603AB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11. Sadarbības apmaksas modelis</a:t>
            </a:r>
            <a:endParaRPr b="1" lang="en-US" sz="1600" spc="-1" strike="noStrike">
              <a:solidFill>
                <a:srgbClr val="40458c"/>
              </a:solidFill>
              <a:latin typeface="Verdana"/>
            </a:endParaRPr>
          </a:p>
        </p:txBody>
      </p:sp>
      <p:sp>
        <p:nvSpPr>
          <p:cNvPr id="193"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777777"/>
                </a:solidFill>
                <a:latin typeface="Verdana"/>
              </a:rPr>
              <a:t>3. modelis – jauktais modelis:</a:t>
            </a: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	</a:t>
            </a:r>
            <a:r>
              <a:rPr b="0" lang="lv-LV" sz="1600" spc="-1" strike="noStrike">
                <a:solidFill>
                  <a:srgbClr val="777777"/>
                </a:solidFill>
                <a:latin typeface="Verdana"/>
              </a:rPr>
              <a:t>elastīgs pirmā un otrā modeļa salikums, ņemot vērā konkrētā klienta vai projekta specifiku (piem., neliela mēneša „agency fee”, papildus vienojoties par atsevišķu neregulāri notiekošu aktivitāšu/pasākumu īstenošanu).</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F655BBF3-DA91-4B62-AD03-3E8C35F000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6560" y="63360"/>
            <a:ext cx="7280280" cy="1067040"/>
          </a:xfrm>
          <a:prstGeom prst="rect">
            <a:avLst/>
          </a:prstGeom>
          <a:solidFill>
            <a:srgbClr val="ffffff"/>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Galvenie produkti </a:t>
            </a:r>
            <a:endParaRPr b="1" lang="en-US" sz="1600" spc="-1" strike="noStrike">
              <a:solidFill>
                <a:srgbClr val="40458c"/>
              </a:solidFill>
              <a:latin typeface="Verdana"/>
            </a:endParaRPr>
          </a:p>
        </p:txBody>
      </p:sp>
      <p:sp>
        <p:nvSpPr>
          <p:cNvPr id="105" name="PlaceHolder 2"/>
          <p:cNvSpPr>
            <a:spLocks noGrp="1"/>
          </p:cNvSpPr>
          <p:nvPr>
            <p:ph/>
          </p:nvPr>
        </p:nvSpPr>
        <p:spPr>
          <a:xfrm>
            <a:off x="684000" y="1557000"/>
            <a:ext cx="7924680" cy="4724280"/>
          </a:xfrm>
          <a:prstGeom prst="rect">
            <a:avLst/>
          </a:prstGeom>
          <a:noFill/>
          <a:ln w="0">
            <a:noFill/>
          </a:ln>
        </p:spPr>
        <p:txBody>
          <a:bodyPr lIns="90000" rIns="90000" tIns="46800" bIns="46800" anchor="t">
            <a:normAutofit/>
          </a:bodyPr>
          <a:p>
            <a:pPr marL="343080" indent="-343080">
              <a:spcBef>
                <a:spcPts val="799"/>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Mūsu galvenie produkti un pakalpojumi, neskaitot standarta sabiedrisko attiecību metodes, ir saistīti ar integrētajām mārketinga komunikācijām. </a:t>
            </a:r>
            <a:endParaRPr b="1" lang="en-US" sz="1600" spc="-1" strike="noStrike">
              <a:solidFill>
                <a:srgbClr val="40458c"/>
              </a:solidFill>
              <a:latin typeface="Verdana"/>
            </a:endParaRPr>
          </a:p>
          <a:p>
            <a:pPr marL="343080" indent="-343080">
              <a:spcBef>
                <a:spcPts val="799"/>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Mūsu piedāvājums</a:t>
            </a:r>
            <a:r>
              <a:rPr b="1" lang="en-GB" sz="1600" spc="-1" strike="noStrike">
                <a:solidFill>
                  <a:srgbClr val="777777"/>
                </a:solidFill>
                <a:latin typeface="Verdana"/>
                <a:ea typeface="Arial Unicode MS"/>
              </a:rPr>
              <a:t>: </a:t>
            </a:r>
            <a:endParaRPr b="1" lang="en-US" sz="1600" spc="-1" strike="noStrike">
              <a:solidFill>
                <a:srgbClr val="40458c"/>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rPr>
              <a:t>sabiedrisku attiecību un/vai kompleksu integrēto komunikāciju programmu izstrāde</a:t>
            </a:r>
            <a:r>
              <a:rPr b="0" lang="lv-LV" sz="1600" spc="-1" strike="noStrike">
                <a:solidFill>
                  <a:srgbClr val="5f5f5f"/>
                </a:solidFill>
                <a:latin typeface="Verdana"/>
                <a:ea typeface="Arial Unicode MS"/>
              </a:rPr>
              <a:t>;</a:t>
            </a:r>
            <a:endParaRPr b="0" lang="en-US" sz="1600" spc="-1" strike="noStrike">
              <a:solidFill>
                <a:srgbClr val="5f5f5f"/>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rPr>
              <a:t>vispusīgu nulles līmeņa komunikācijas programmas plānošana</a:t>
            </a:r>
            <a:r>
              <a:rPr b="0" lang="en-GB" sz="1600" spc="-1" strike="noStrike">
                <a:solidFill>
                  <a:srgbClr val="5f5f5f"/>
                </a:solidFill>
                <a:latin typeface="Verdana"/>
                <a:ea typeface="Arial Unicode MS"/>
              </a:rPr>
              <a:t>;</a:t>
            </a:r>
            <a:endParaRPr b="0" lang="en-US" sz="1600" spc="-1" strike="noStrike">
              <a:solidFill>
                <a:srgbClr val="5f5f5f"/>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rPr>
              <a:t>šādu programmu īstenošana saistībā ar objektīvām situācijas pārmaiņām un klienta vēlmēm</a:t>
            </a:r>
            <a:r>
              <a:rPr b="0" lang="en-GB" sz="1600" spc="-1" strike="noStrike">
                <a:solidFill>
                  <a:srgbClr val="5f5f5f"/>
                </a:solidFill>
                <a:latin typeface="Verdana"/>
                <a:ea typeface="Arial Unicode MS"/>
              </a:rPr>
              <a:t>;</a:t>
            </a:r>
            <a:endParaRPr b="0" lang="en-US" sz="1600" spc="-1" strike="noStrike">
              <a:solidFill>
                <a:srgbClr val="5f5f5f"/>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rPr>
              <a:t>brendu (zīmolu) idejas radīšanas, pozicionēšanas un ieviešanas shēmas, kā arī - nepieciešamības gadījumā - jaunu pozicionēšanas shēmu izstrādāšana un ieviešana</a:t>
            </a:r>
            <a:r>
              <a:rPr b="0" lang="en-GB" sz="1600" spc="-1" strike="noStrike">
                <a:solidFill>
                  <a:srgbClr val="5f5f5f"/>
                </a:solidFill>
                <a:latin typeface="Verdana"/>
                <a:ea typeface="Arial Unicode MS"/>
              </a:rPr>
              <a:t>;</a:t>
            </a:r>
            <a:endParaRPr b="0" lang="en-US" sz="1600" spc="-1" strike="noStrike">
              <a:solidFill>
                <a:srgbClr val="5f5f5f"/>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rPr>
              <a:t>tirgus un sabiedriskās domas aptaujas</a:t>
            </a:r>
            <a:r>
              <a:rPr b="0" lang="en-GB" sz="1600" spc="-1" strike="noStrike">
                <a:solidFill>
                  <a:srgbClr val="5f5f5f"/>
                </a:solidFill>
                <a:latin typeface="Verdana"/>
                <a:ea typeface="Arial Unicode MS"/>
              </a:rPr>
              <a:t>, </a:t>
            </a:r>
            <a:r>
              <a:rPr b="0" lang="lv-LV" sz="1600" spc="-1" strike="noStrike">
                <a:solidFill>
                  <a:srgbClr val="5f5f5f"/>
                </a:solidFill>
                <a:latin typeface="Verdana"/>
              </a:rPr>
              <a:t>rezultātu analīze</a:t>
            </a:r>
            <a:r>
              <a:rPr b="0" lang="en-GB" sz="1600" spc="-1" strike="noStrike">
                <a:solidFill>
                  <a:srgbClr val="5f5f5f"/>
                </a:solidFill>
                <a:latin typeface="Verdana"/>
                <a:ea typeface="Arial Unicode MS"/>
              </a:rPr>
              <a:t>;</a:t>
            </a:r>
            <a:endParaRPr b="0" lang="en-US" sz="1600" spc="-1" strike="noStrike">
              <a:solidFill>
                <a:srgbClr val="5f5f5f"/>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0E475FE1-673E-40CE-98B8-308493B119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VP Market” publiskā komunikācija – Latvijas mediju 2004.-2005. gada monitorings </a:t>
            </a:r>
            <a:endParaRPr b="1" lang="en-US" sz="1600" spc="-1" strike="noStrike">
              <a:solidFill>
                <a:srgbClr val="40458c"/>
              </a:solidFill>
              <a:latin typeface="Verdana"/>
            </a:endParaRPr>
          </a:p>
        </p:txBody>
      </p:sp>
      <p:graphicFrame>
        <p:nvGraphicFramePr>
          <p:cNvPr id="195" name=""/>
          <p:cNvGraphicFramePr/>
          <p:nvPr/>
        </p:nvGraphicFramePr>
        <p:xfrm>
          <a:off x="2341440" y="1359000"/>
          <a:ext cx="4611960" cy="4724280"/>
        </p:xfrm>
        <a:graphic>
          <a:graphicData uri="http://schemas.openxmlformats.org/presentationml/2006/ole">
            <p:oleObj progId="Excel.Sheet.12" r:id="rId1" spid="">
              <p:embed/>
              <p:pic>
                <p:nvPicPr>
                  <p:cNvPr id="196" name="" descr=""/>
                  <p:cNvPicPr/>
                  <p:nvPr/>
                </p:nvPicPr>
                <p:blipFill>
                  <a:blip r:embed="rId2"/>
                  <a:stretch/>
                </p:blipFill>
                <p:spPr>
                  <a:xfrm>
                    <a:off x="2341440" y="1359000"/>
                    <a:ext cx="4611960" cy="4724280"/>
                  </a:xfrm>
                  <a:prstGeom prst="rect">
                    <a:avLst/>
                  </a:prstGeom>
                  <a:ln w="0">
                    <a:noFill/>
                  </a:ln>
                </p:spPr>
              </p:pic>
            </p:oleObj>
          </a:graphicData>
        </a:graphic>
      </p:graphicFrame>
      <p:sp>
        <p:nvSpPr>
          <p:cNvPr id="3" name="PlaceHolder 2"/>
          <p:cNvSpPr>
            <a:spLocks noGrp="1"/>
          </p:cNvSpPr>
          <p:nvPr>
            <p:ph type="sldNum" idx="3"/>
          </p:nvPr>
        </p:nvSpPr>
        <p:spPr/>
        <p:txBody>
          <a:bodyPr/>
          <a:p>
            <a:fld id="{0256E48E-88A0-45B8-9AE5-B8CF4C8376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VP Market” publiskā komunikācija – Latvijas mediju 2004.-2005. gada monitorings</a:t>
            </a:r>
            <a:endParaRPr b="1" lang="en-US" sz="1600" spc="-1" strike="noStrike">
              <a:solidFill>
                <a:srgbClr val="40458c"/>
              </a:solidFill>
              <a:latin typeface="Verdana"/>
            </a:endParaRPr>
          </a:p>
        </p:txBody>
      </p:sp>
      <p:graphicFrame>
        <p:nvGraphicFramePr>
          <p:cNvPr id="198" name=""/>
          <p:cNvGraphicFramePr/>
          <p:nvPr/>
        </p:nvGraphicFramePr>
        <p:xfrm>
          <a:off x="923760" y="1359000"/>
          <a:ext cx="7448760" cy="4724280"/>
        </p:xfrm>
        <a:graphic>
          <a:graphicData uri="http://schemas.openxmlformats.org/presentationml/2006/ole">
            <p:oleObj progId="Excel.Sheet.12" r:id="rId1" spid="">
              <p:embed/>
              <p:pic>
                <p:nvPicPr>
                  <p:cNvPr id="199" name="" descr=""/>
                  <p:cNvPicPr/>
                  <p:nvPr/>
                </p:nvPicPr>
                <p:blipFill>
                  <a:blip r:embed="rId2"/>
                  <a:stretch/>
                </p:blipFill>
                <p:spPr>
                  <a:xfrm>
                    <a:off x="923760" y="1359000"/>
                    <a:ext cx="7448760" cy="4724280"/>
                  </a:xfrm>
                  <a:prstGeom prst="rect">
                    <a:avLst/>
                  </a:prstGeom>
                  <a:ln w="0">
                    <a:noFill/>
                  </a:ln>
                </p:spPr>
              </p:pic>
            </p:oleObj>
          </a:graphicData>
        </a:graphic>
      </p:graphicFrame>
      <p:sp>
        <p:nvSpPr>
          <p:cNvPr id="3" name="PlaceHolder 2"/>
          <p:cNvSpPr>
            <a:spLocks noGrp="1"/>
          </p:cNvSpPr>
          <p:nvPr>
            <p:ph type="sldNum" idx="3"/>
          </p:nvPr>
        </p:nvSpPr>
        <p:spPr/>
        <p:txBody>
          <a:bodyPr/>
          <a:p>
            <a:fld id="{9A637AC1-5C05-4FDD-AA7D-02192A1D02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VP Market” publiskā komunikācija – Latvijas mediju 2004.-2005. gada monitorings</a:t>
            </a:r>
            <a:endParaRPr b="1" lang="en-US" sz="1600" spc="-1" strike="noStrike">
              <a:solidFill>
                <a:srgbClr val="40458c"/>
              </a:solidFill>
              <a:latin typeface="Verdana"/>
            </a:endParaRPr>
          </a:p>
        </p:txBody>
      </p:sp>
      <p:graphicFrame>
        <p:nvGraphicFramePr>
          <p:cNvPr id="201" name=""/>
          <p:cNvGraphicFramePr/>
          <p:nvPr/>
        </p:nvGraphicFramePr>
        <p:xfrm>
          <a:off x="2328840" y="2506680"/>
          <a:ext cx="4638600" cy="2428920"/>
        </p:xfrm>
        <a:graphic>
          <a:graphicData uri="http://schemas.openxmlformats.org/presentationml/2006/ole">
            <p:oleObj progId="Excel.Sheet.12" r:id="rId1" spid="">
              <p:embed/>
              <p:pic>
                <p:nvPicPr>
                  <p:cNvPr id="202" name="" descr=""/>
                  <p:cNvPicPr/>
                  <p:nvPr/>
                </p:nvPicPr>
                <p:blipFill>
                  <a:blip r:embed="rId2"/>
                  <a:stretch/>
                </p:blipFill>
                <p:spPr>
                  <a:xfrm>
                    <a:off x="2328840" y="2506680"/>
                    <a:ext cx="4638600" cy="2428920"/>
                  </a:xfrm>
                  <a:prstGeom prst="rect">
                    <a:avLst/>
                  </a:prstGeom>
                  <a:ln w="0">
                    <a:noFill/>
                  </a:ln>
                </p:spPr>
              </p:pic>
            </p:oleObj>
          </a:graphicData>
        </a:graphic>
      </p:graphicFrame>
      <p:sp>
        <p:nvSpPr>
          <p:cNvPr id="3" name="PlaceHolder 2"/>
          <p:cNvSpPr>
            <a:spLocks noGrp="1"/>
          </p:cNvSpPr>
          <p:nvPr>
            <p:ph type="sldNum" idx="3"/>
          </p:nvPr>
        </p:nvSpPr>
        <p:spPr/>
        <p:txBody>
          <a:bodyPr/>
          <a:p>
            <a:fld id="{B7DF2CD7-77E5-4E1A-9DBB-0FD9191672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71400" y="2563920"/>
            <a:ext cx="7925040" cy="122688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40458c"/>
                </a:solidFill>
                <a:latin typeface="Verdana"/>
              </a:rPr>
              <a:t>Paldies par uzmanību</a:t>
            </a:r>
            <a:r>
              <a:rPr b="1" lang="en-US" sz="2200" spc="-1" strike="noStrike">
                <a:solidFill>
                  <a:srgbClr val="40458c"/>
                </a:solidFill>
                <a:latin typeface="Verdana"/>
              </a:rPr>
              <a:t>!</a:t>
            </a:r>
            <a:endParaRPr b="1" lang="en-US" sz="2200" spc="-1" strike="noStrike">
              <a:solidFill>
                <a:srgbClr val="40458c"/>
              </a:solidFill>
              <a:latin typeface="Verdana"/>
            </a:endParaRPr>
          </a:p>
        </p:txBody>
      </p:sp>
      <p:sp>
        <p:nvSpPr>
          <p:cNvPr id="3" name="PlaceHolder 2"/>
          <p:cNvSpPr>
            <a:spLocks noGrp="1"/>
          </p:cNvSpPr>
          <p:nvPr>
            <p:ph type="sldNum" idx="3"/>
          </p:nvPr>
        </p:nvSpPr>
        <p:spPr/>
        <p:txBody>
          <a:bodyPr/>
          <a:p>
            <a:fld id="{31175477-5A8B-4F62-AA5D-0E01646187A6}"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884240"/>
            <a:ext cx="7924680" cy="4376880"/>
          </a:xfrm>
          <a:prstGeom prst="rect">
            <a:avLst/>
          </a:prstGeom>
          <a:noFill/>
          <a:ln w="0">
            <a:noFill/>
          </a:ln>
        </p:spPr>
        <p:txBody>
          <a:bodyPr lIns="90000" rIns="90000" tIns="46800" bIns="46800" anchor="t">
            <a:normAutofit/>
          </a:bodyPr>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rPr>
              <a:t>visaptverošs informatīvo pakalpojumu spektrs</a:t>
            </a:r>
            <a:r>
              <a:rPr b="0" lang="en-US" sz="1600" spc="-1" strike="noStrike">
                <a:solidFill>
                  <a:srgbClr val="5f5f5f"/>
                </a:solidFill>
                <a:latin typeface="Verdana"/>
                <a:ea typeface="Arial Unicode MS"/>
              </a:rPr>
              <a:t>;</a:t>
            </a:r>
            <a:endParaRPr b="0" lang="en-US" sz="1600" spc="-1" strike="noStrike">
              <a:solidFill>
                <a:srgbClr val="5f5f5f"/>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ea typeface="Arial Unicode MS"/>
              </a:rPr>
              <a:t>klientiem labvēlīgas likumdošanas un normatīvo aktu veicināšan</a:t>
            </a:r>
            <a:r>
              <a:rPr b="0" lang="lv-LV" sz="1600" spc="-1" strike="noStrike">
                <a:solidFill>
                  <a:srgbClr val="5f5f5f"/>
                </a:solidFill>
                <a:latin typeface="Arial"/>
                <a:ea typeface="Arial Unicode MS"/>
              </a:rPr>
              <a:t>a</a:t>
            </a:r>
            <a:r>
              <a:rPr b="0" lang="lv-LV" sz="1600" spc="-1" strike="noStrike">
                <a:solidFill>
                  <a:srgbClr val="5f5f5f"/>
                </a:solidFill>
                <a:latin typeface="Verdana"/>
                <a:ea typeface="Arial Unicode MS"/>
              </a:rPr>
              <a:t>, viedokļu līderu publiski pausto uzskatu maiņ</a:t>
            </a:r>
            <a:r>
              <a:rPr b="0" lang="lv-LV" sz="1600" spc="-1" strike="noStrike">
                <a:solidFill>
                  <a:srgbClr val="5f5f5f"/>
                </a:solidFill>
                <a:latin typeface="Arial"/>
                <a:ea typeface="Arial Unicode MS"/>
              </a:rPr>
              <a:t>a</a:t>
            </a:r>
            <a:r>
              <a:rPr b="0" lang="en-US" sz="1600" spc="-1" strike="noStrike">
                <a:solidFill>
                  <a:srgbClr val="5f5f5f"/>
                </a:solidFill>
                <a:latin typeface="Verdana"/>
                <a:ea typeface="Arial Unicode MS"/>
              </a:rPr>
              <a:t>;</a:t>
            </a:r>
            <a:endParaRPr b="0" lang="en-US" sz="1600" spc="-1" strike="noStrike">
              <a:solidFill>
                <a:srgbClr val="5f5f5f"/>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ea typeface="Arial Unicode MS"/>
              </a:rPr>
              <a:t>kontakt</a:t>
            </a:r>
            <a:r>
              <a:rPr b="0" lang="lv-LV" sz="1600" spc="-1" strike="noStrike">
                <a:solidFill>
                  <a:srgbClr val="5f5f5f"/>
                </a:solidFill>
                <a:latin typeface="Arial"/>
                <a:ea typeface="Arial Unicode MS"/>
              </a:rPr>
              <a:t>i</a:t>
            </a:r>
            <a:r>
              <a:rPr b="0" lang="lv-LV" sz="1600" spc="-1" strike="noStrike">
                <a:solidFill>
                  <a:srgbClr val="5f5f5f"/>
                </a:solidFill>
                <a:latin typeface="Verdana"/>
                <a:ea typeface="Arial Unicode MS"/>
              </a:rPr>
              <a:t> ar politisko partiju līderiem, personām no likumdošanas, administrācijas, nevalstiskajām un citām institūcijām</a:t>
            </a:r>
            <a:r>
              <a:rPr b="0" lang="en-US" sz="1600" spc="-1" strike="noStrike">
                <a:solidFill>
                  <a:srgbClr val="5f5f5f"/>
                </a:solidFill>
                <a:latin typeface="Verdana"/>
                <a:ea typeface="Arial Unicode MS"/>
              </a:rPr>
              <a:t>;</a:t>
            </a:r>
            <a:endParaRPr b="0" lang="en-US" sz="1600" spc="-1" strike="noStrike">
              <a:solidFill>
                <a:srgbClr val="5f5f5f"/>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ea typeface="Arial Unicode MS"/>
              </a:rPr>
              <a:t>dažāda veida informatīvo materiālu (tai skaitā interaktīvu projektu) sagatavošan</a:t>
            </a:r>
            <a:r>
              <a:rPr b="0" lang="lv-LV" sz="1600" spc="-1" strike="noStrike">
                <a:solidFill>
                  <a:srgbClr val="5f5f5f"/>
                </a:solidFill>
                <a:latin typeface="Arial"/>
                <a:ea typeface="Arial Unicode MS"/>
              </a:rPr>
              <a:t>a</a:t>
            </a:r>
            <a:r>
              <a:rPr b="0" lang="lv-LV" sz="1600" spc="-1" strike="noStrike">
                <a:solidFill>
                  <a:srgbClr val="5f5f5f"/>
                </a:solidFill>
                <a:latin typeface="Verdana"/>
                <a:ea typeface="Arial Unicode MS"/>
              </a:rPr>
              <a:t> un izdošan</a:t>
            </a:r>
            <a:r>
              <a:rPr b="0" lang="lv-LV" sz="1600" spc="-1" strike="noStrike">
                <a:solidFill>
                  <a:srgbClr val="5f5f5f"/>
                </a:solidFill>
                <a:latin typeface="Arial"/>
                <a:ea typeface="Arial Unicode MS"/>
              </a:rPr>
              <a:t>a</a:t>
            </a:r>
            <a:r>
              <a:rPr b="0" lang="en-US" sz="1600" spc="-1" strike="noStrike">
                <a:solidFill>
                  <a:srgbClr val="5f5f5f"/>
                </a:solidFill>
                <a:latin typeface="Verdana"/>
                <a:ea typeface="Arial Unicode MS"/>
              </a:rPr>
              <a:t>;</a:t>
            </a:r>
            <a:endParaRPr b="0" lang="en-US" sz="1600" spc="-1" strike="noStrike">
              <a:solidFill>
                <a:srgbClr val="5f5f5f"/>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ea typeface="Arial Unicode MS"/>
              </a:rPr>
              <a:t>notikumu radīšan</a:t>
            </a:r>
            <a:r>
              <a:rPr b="0" lang="lv-LV" sz="1600" spc="-1" strike="noStrike">
                <a:solidFill>
                  <a:srgbClr val="5f5f5f"/>
                </a:solidFill>
                <a:latin typeface="Arial"/>
                <a:ea typeface="Arial Unicode MS"/>
              </a:rPr>
              <a:t>a</a:t>
            </a:r>
            <a:r>
              <a:rPr b="0" lang="lv-LV" sz="1600" spc="-1" strike="noStrike">
                <a:solidFill>
                  <a:srgbClr val="5f5f5f"/>
                </a:solidFill>
                <a:latin typeface="Verdana"/>
                <a:ea typeface="Arial Unicode MS"/>
              </a:rPr>
              <a:t> un publicitāt</a:t>
            </a:r>
            <a:r>
              <a:rPr b="0" lang="lv-LV" sz="1600" spc="-1" strike="noStrike">
                <a:solidFill>
                  <a:srgbClr val="5f5f5f"/>
                </a:solidFill>
                <a:latin typeface="Arial"/>
                <a:ea typeface="Arial Unicode MS"/>
              </a:rPr>
              <a:t>e</a:t>
            </a:r>
            <a:r>
              <a:rPr b="0" lang="en-US" sz="1600" spc="-1" strike="noStrike">
                <a:solidFill>
                  <a:srgbClr val="5f5f5f"/>
                </a:solidFill>
                <a:latin typeface="Verdana"/>
                <a:ea typeface="Arial Unicode MS"/>
              </a:rPr>
              <a:t>;</a:t>
            </a:r>
            <a:endParaRPr b="0" lang="en-US" sz="1600" spc="-1" strike="noStrike">
              <a:solidFill>
                <a:srgbClr val="5f5f5f"/>
              </a:solidFill>
              <a:latin typeface="Verdana"/>
            </a:endParaRPr>
          </a:p>
          <a:p>
            <a:pPr lvl="1" marL="74304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5f5f5f"/>
                </a:solidFill>
                <a:latin typeface="Verdana"/>
                <a:ea typeface="Times New Roman"/>
              </a:rPr>
              <a:t>institūciju un personāliju tēla veidošana, kā arī iekšējo attiecību un darbinieku komunikācijas sekmēšana.</a:t>
            </a:r>
            <a:endParaRPr b="0" lang="en-US" sz="1600" spc="-1" strike="noStrike">
              <a:solidFill>
                <a:srgbClr val="5f5f5f"/>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p:txBody>
      </p:sp>
      <p:sp>
        <p:nvSpPr>
          <p:cNvPr id="107" name="PlaceHolder 2"/>
          <p:cNvSpPr>
            <a:spLocks noGrp="1"/>
          </p:cNvSpPr>
          <p:nvPr>
            <p:ph type="title"/>
          </p:nvPr>
        </p:nvSpPr>
        <p:spPr>
          <a:xfrm>
            <a:off x="1366560" y="63360"/>
            <a:ext cx="7280280" cy="1067040"/>
          </a:xfrm>
          <a:prstGeom prst="rect">
            <a:avLst/>
          </a:prstGeom>
          <a:solidFill>
            <a:srgbClr val="f8f8f8"/>
          </a:solidFill>
          <a:ln w="3240">
            <a:solidFill>
              <a:srgbClr val="ff6600"/>
            </a:solidFill>
            <a:miter/>
          </a:ln>
        </p:spPr>
        <p:txBody>
          <a:bodyPr rIns="270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Galvenie produkti</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692BA599-D39F-43D6-A932-FCCC6E7A2D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ea typeface="Times New Roman"/>
              </a:rPr>
              <a:t>Galvenie klienti</a:t>
            </a:r>
            <a:endParaRPr b="1" lang="en-US" sz="1600" spc="-1" strike="noStrike">
              <a:solidFill>
                <a:srgbClr val="40458c"/>
              </a:solidFill>
              <a:latin typeface="Verdana"/>
            </a:endParaRPr>
          </a:p>
        </p:txBody>
      </p:sp>
      <p:sp>
        <p:nvSpPr>
          <p:cNvPr id="109" name="PlaceHolder 2"/>
          <p:cNvSpPr>
            <a:spLocks noGrp="1"/>
          </p:cNvSpPr>
          <p:nvPr>
            <p:ph/>
          </p:nvPr>
        </p:nvSpPr>
        <p:spPr>
          <a:xfrm>
            <a:off x="685440" y="1373040"/>
            <a:ext cx="7924680" cy="4740480"/>
          </a:xfrm>
          <a:prstGeom prst="rect">
            <a:avLst/>
          </a:prstGeom>
          <a:noFill/>
          <a:ln w="0">
            <a:noFill/>
          </a:ln>
        </p:spPr>
        <p:txBody>
          <a:bodyPr lIns="90000" rIns="90000" tIns="46800" bIns="46800" anchor="t">
            <a:normAutofit/>
          </a:bodyPr>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ieredze rāda, ka </a:t>
            </a:r>
            <a:r>
              <a:rPr b="0" i="1" lang="en-GB" sz="1600" spc="-1" strike="noStrike">
                <a:solidFill>
                  <a:srgbClr val="777777"/>
                </a:solidFill>
                <a:latin typeface="Verdana"/>
              </a:rPr>
              <a:t>P.R.A.E. </a:t>
            </a:r>
            <a:r>
              <a:rPr b="0" i="1" lang="lv-LV" sz="1600" spc="-1" strike="noStrike">
                <a:solidFill>
                  <a:srgbClr val="777777"/>
                </a:solidFill>
                <a:latin typeface="Verdana"/>
              </a:rPr>
              <a:t>Sabiedriskās attiecības</a:t>
            </a:r>
            <a:r>
              <a:rPr b="0" lang="en-GB" sz="1600" spc="-1" strike="noStrike">
                <a:solidFill>
                  <a:srgbClr val="777777"/>
                </a:solidFill>
                <a:latin typeface="Verdana"/>
              </a:rPr>
              <a:t> </a:t>
            </a:r>
            <a:r>
              <a:rPr b="0" lang="lv-LV" sz="1600" spc="-1" strike="noStrike">
                <a:solidFill>
                  <a:srgbClr val="777777"/>
                </a:solidFill>
                <a:latin typeface="Verdana"/>
              </a:rPr>
              <a:t>kā sabiedrisko attiecību un integrēto mārketinga komunikāciju aģentūru izvēlas tās kompānijas, kas ir pārliecinātas par sabiedrisko attiecību nozīmi mūsdienu pasaulē, kā arī par nepieciešamību veidot ilgtermiņa attiecības ar mērķa publikām un masu medijiem. </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Mūsu klienti ir gan Latvijas kompānijas </a:t>
            </a:r>
            <a:r>
              <a:rPr b="0" lang="en-GB" sz="1600" spc="-1" strike="noStrike">
                <a:solidFill>
                  <a:srgbClr val="777777"/>
                </a:solidFill>
                <a:latin typeface="Verdana"/>
              </a:rPr>
              <a:t>– </a:t>
            </a:r>
            <a:r>
              <a:rPr b="0" lang="lv-LV" sz="1600" spc="-1" strike="noStrike">
                <a:solidFill>
                  <a:srgbClr val="777777"/>
                </a:solidFill>
                <a:latin typeface="Verdana"/>
              </a:rPr>
              <a:t>galvenokārt tirgus līderi </a:t>
            </a:r>
            <a:r>
              <a:rPr b="0" lang="en-GB" sz="1600" spc="-1" strike="noStrike">
                <a:solidFill>
                  <a:srgbClr val="777777"/>
                </a:solidFill>
                <a:latin typeface="Verdana"/>
              </a:rPr>
              <a:t>–</a:t>
            </a:r>
            <a:r>
              <a:rPr b="0" lang="lv-LV" sz="1600" spc="-1" strike="noStrike">
                <a:solidFill>
                  <a:srgbClr val="777777"/>
                </a:solidFill>
                <a:latin typeface="Verdana"/>
              </a:rPr>
              <a:t>,</a:t>
            </a:r>
            <a:r>
              <a:rPr b="0" lang="en-GB" sz="1600" spc="-1" strike="noStrike">
                <a:solidFill>
                  <a:srgbClr val="777777"/>
                </a:solidFill>
                <a:latin typeface="Verdana"/>
              </a:rPr>
              <a:t> </a:t>
            </a:r>
            <a:r>
              <a:rPr b="0" lang="lv-LV" sz="1600" spc="-1" strike="noStrike">
                <a:solidFill>
                  <a:srgbClr val="777777"/>
                </a:solidFill>
                <a:latin typeface="Verdana"/>
              </a:rPr>
              <a:t>gan atpazīstamas starptautiskās kompānijas, kā arī multinacionālu korporāciju meitas uzņēmumi, valsts un nevalstiskās struktūras.</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Mūsu klienti pārstāv tādus sektorus kā</a:t>
            </a:r>
            <a:r>
              <a:rPr b="0" lang="en-GB" sz="1600" spc="-1" strike="noStrike">
                <a:solidFill>
                  <a:srgbClr val="777777"/>
                </a:solidFill>
                <a:latin typeface="Verdana"/>
              </a:rPr>
              <a:t>:</a:t>
            </a:r>
            <a:endParaRPr b="1" lang="en-US" sz="1600" spc="-1" strike="noStrike">
              <a:solidFill>
                <a:srgbClr val="40458c"/>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3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777777"/>
                </a:solidFill>
                <a:latin typeface="Verdana"/>
              </a:rPr>
              <a:t>Transports;</a:t>
            </a:r>
            <a:endParaRPr b="1" lang="en-US" sz="1200" spc="-1" strike="noStrike">
              <a:solidFill>
                <a:srgbClr val="40458c"/>
              </a:solidFill>
              <a:latin typeface="Verdana"/>
            </a:endParaRPr>
          </a:p>
          <a:p>
            <a:pPr marL="343080" indent="-343080">
              <a:lnSpc>
                <a:spcPct val="80000"/>
              </a:lnSpc>
              <a:spcBef>
                <a:spcPts val="3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777777"/>
                </a:solidFill>
                <a:latin typeface="Verdana"/>
              </a:rPr>
              <a:t>IT pakalpojumi un produkti;</a:t>
            </a:r>
            <a:endParaRPr b="1" lang="en-US" sz="1200" spc="-1" strike="noStrike">
              <a:solidFill>
                <a:srgbClr val="40458c"/>
              </a:solidFill>
              <a:latin typeface="Verdana"/>
            </a:endParaRPr>
          </a:p>
          <a:p>
            <a:pPr marL="343080" indent="-343080">
              <a:lnSpc>
                <a:spcPct val="80000"/>
              </a:lnSpc>
              <a:spcBef>
                <a:spcPts val="3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777777"/>
                </a:solidFill>
                <a:latin typeface="Verdana"/>
              </a:rPr>
              <a:t>Telekomunikācijas un IT;</a:t>
            </a:r>
            <a:endParaRPr b="1" lang="en-US" sz="1200" spc="-1" strike="noStrike">
              <a:solidFill>
                <a:srgbClr val="40458c"/>
              </a:solidFill>
              <a:latin typeface="Verdana"/>
            </a:endParaRPr>
          </a:p>
          <a:p>
            <a:pPr marL="343080" indent="-343080">
              <a:lnSpc>
                <a:spcPct val="80000"/>
              </a:lnSpc>
              <a:spcBef>
                <a:spcPts val="3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777777"/>
                </a:solidFill>
                <a:latin typeface="Verdana"/>
              </a:rPr>
              <a:t>Pārtikas rūpniecība;</a:t>
            </a:r>
            <a:endParaRPr b="1" lang="en-US" sz="1200" spc="-1" strike="noStrike">
              <a:solidFill>
                <a:srgbClr val="40458c"/>
              </a:solidFill>
              <a:latin typeface="Verdana"/>
            </a:endParaRPr>
          </a:p>
          <a:p>
            <a:pPr marL="343080" indent="-343080">
              <a:lnSpc>
                <a:spcPct val="80000"/>
              </a:lnSpc>
              <a:spcBef>
                <a:spcPts val="3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777777"/>
                </a:solidFill>
                <a:latin typeface="Verdana"/>
              </a:rPr>
              <a:t>Finanšu pakalpojumi;</a:t>
            </a:r>
            <a:endParaRPr b="1" lang="en-US" sz="1200" spc="-1" strike="noStrike">
              <a:solidFill>
                <a:srgbClr val="40458c"/>
              </a:solidFill>
              <a:latin typeface="Verdana"/>
            </a:endParaRPr>
          </a:p>
          <a:p>
            <a:pPr marL="343080" indent="-343080">
              <a:lnSpc>
                <a:spcPct val="80000"/>
              </a:lnSpc>
              <a:spcBef>
                <a:spcPts val="3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777777"/>
                </a:solidFill>
                <a:latin typeface="Verdana"/>
              </a:rPr>
              <a:t>Enerģijas, degvielas un benzīna tirdzniecība;</a:t>
            </a:r>
            <a:endParaRPr b="1" lang="en-US" sz="1200" spc="-1" strike="noStrike">
              <a:solidFill>
                <a:srgbClr val="40458c"/>
              </a:solidFill>
              <a:latin typeface="Verdana"/>
            </a:endParaRPr>
          </a:p>
          <a:p>
            <a:pPr marL="343080" indent="-343080">
              <a:lnSpc>
                <a:spcPct val="80000"/>
              </a:lnSpc>
              <a:spcBef>
                <a:spcPts val="3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777777"/>
                </a:solidFill>
                <a:latin typeface="Verdana"/>
              </a:rPr>
              <a:t>Farmācijas industrija;</a:t>
            </a:r>
            <a:endParaRPr b="1" lang="en-US" sz="1200" spc="-1" strike="noStrike">
              <a:solidFill>
                <a:srgbClr val="40458c"/>
              </a:solidFill>
              <a:latin typeface="Verdana"/>
            </a:endParaRPr>
          </a:p>
          <a:p>
            <a:pPr marL="343080" indent="-343080">
              <a:lnSpc>
                <a:spcPct val="80000"/>
              </a:lnSpc>
              <a:spcBef>
                <a:spcPts val="3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777777"/>
                </a:solidFill>
                <a:latin typeface="Verdana"/>
              </a:rPr>
              <a:t>Pakalpojumu un tirdzniecības uzņēmumi;</a:t>
            </a:r>
            <a:endParaRPr b="1" lang="en-US" sz="1200" spc="-1" strike="noStrike">
              <a:solidFill>
                <a:srgbClr val="40458c"/>
              </a:solidFill>
              <a:latin typeface="Verdana"/>
            </a:endParaRPr>
          </a:p>
          <a:p>
            <a:pPr marL="343080" indent="-343080">
              <a:lnSpc>
                <a:spcPct val="80000"/>
              </a:lnSpc>
              <a:spcBef>
                <a:spcPts val="3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777777"/>
                </a:solidFill>
                <a:latin typeface="Verdana"/>
              </a:rPr>
              <a:t>Investīciju projekti.</a:t>
            </a:r>
            <a:endParaRPr b="1" lang="en-US" sz="1200" spc="-1" strike="noStrike">
              <a:solidFill>
                <a:srgbClr val="40458c"/>
              </a:solidFill>
              <a:latin typeface="Verdana"/>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40458c"/>
              </a:solidFill>
              <a:latin typeface="Verdana"/>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40458c"/>
              </a:solidFill>
              <a:latin typeface="Verdana"/>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40458c"/>
              </a:solidFill>
              <a:latin typeface="Verdana"/>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ea typeface="Times New Roman"/>
              </a:rPr>
              <a:t>Šajā prezentācijā sniedzam ieskatu dažos projektos, pret kuru publiskošanu klientiem nav iebildumu.</a:t>
            </a:r>
            <a:endParaRPr b="1" lang="en-US" sz="1600" spc="-1" strike="noStrike">
              <a:solidFill>
                <a:srgbClr val="40458c"/>
              </a:solidFill>
              <a:latin typeface="Verdana"/>
            </a:endParaRPr>
          </a:p>
          <a:p>
            <a:pPr lvl="2" marL="1150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Verdana"/>
            </a:endParaRPr>
          </a:p>
        </p:txBody>
      </p:sp>
      <p:sp>
        <p:nvSpPr>
          <p:cNvPr id="4" name="PlaceHolder 3"/>
          <p:cNvSpPr>
            <a:spLocks noGrp="1"/>
          </p:cNvSpPr>
          <p:nvPr>
            <p:ph type="sldNum" idx="3"/>
          </p:nvPr>
        </p:nvSpPr>
        <p:spPr/>
        <p:txBody>
          <a:bodyPr/>
          <a:p>
            <a:fld id="{C1186C5F-FE3F-42E4-AB2B-0EBF6C63A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br>
              <a:rPr sz="1600"/>
            </a:br>
            <a:endParaRPr b="1" lang="en-US" sz="1600" spc="-1" strike="noStrike">
              <a:solidFill>
                <a:srgbClr val="40458c"/>
              </a:solidFill>
              <a:latin typeface="Verdana"/>
            </a:endParaRPr>
          </a:p>
        </p:txBody>
      </p:sp>
      <p:sp>
        <p:nvSpPr>
          <p:cNvPr id="111"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40458c"/>
                </a:solidFill>
                <a:latin typeface="Verdana"/>
              </a:rPr>
              <a:t> </a:t>
            </a:r>
            <a:r>
              <a:rPr b="1" lang="lv-LV" sz="1600" spc="-1" strike="noStrike">
                <a:solidFill>
                  <a:srgbClr val="777777"/>
                </a:solidFill>
                <a:latin typeface="Verdana"/>
              </a:rPr>
              <a:t>„</a:t>
            </a:r>
            <a:r>
              <a:rPr b="1" lang="lv-LV" sz="1600" spc="-1" strike="noStrike">
                <a:solidFill>
                  <a:srgbClr val="777777"/>
                </a:solidFill>
                <a:latin typeface="Verdana"/>
              </a:rPr>
              <a:t>VP Market” komunikācijas situācija</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Pēdējos gados Latvijas informācijas telpā būtiski pastiprinās organizāciju/uzņēmumu/personāliju producēto un komunicēto ziņu konkurence;</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rvien intensīvāk notikumus un ziņas producē arī mazumtirdzniecības uzņēmumi, apvienojot sabiedrisko attiecību kampaņas arī ar reklāmu;</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t>
            </a:r>
            <a:r>
              <a:rPr b="0" lang="lv-LV" sz="1600" spc="-1" strike="noStrike">
                <a:solidFill>
                  <a:srgbClr val="777777"/>
                </a:solidFill>
                <a:latin typeface="Verdana"/>
              </a:rPr>
              <a:t>VP Market” kopējā publicitāte ir plašāka nekā konkurentiem (skat pievienoto mediju statistiku);</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Taču uzņēmuma publicitāte pārsvarā attiecas uz mārketingu, nevis sociālajām aktivitātēm, personālijām u.c. tēmām.</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Uzņēmums veiksmīgi izmantojis integrētā mārketinga iespējas – it sevišķi krievu valodā izdotajos medijos, „Mediju nama” izdevumos (aptaujāts „Rīgas Balss” žurnālists – „„VP Market” ir mūsu galvenais reklāmdevējs, tāpēc laikraksta vadības attieksme ir vairāk nekā pozitīva”);</a:t>
            </a: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Ne tik veiksmīga publicitāte ir elektroniskajos medijos, „Dienā”, „Dienas Biznesā”, kas būtiski veido sabiedrisko domu, bet kur nepieciešama cita pieeja.</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8DCA974E-36B9-4D71-B86F-FEE58C68C3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3360"/>
            <a:ext cx="7238880" cy="1067040"/>
          </a:xfrm>
          <a:prstGeom prst="rect">
            <a:avLst/>
          </a:prstGeom>
          <a:solidFill>
            <a:srgbClr val="f8f8f8"/>
          </a:solidFill>
          <a:ln w="3240">
            <a:solidFill>
              <a:srgbClr val="ff6600"/>
            </a:solidFill>
            <a:miter/>
          </a:ln>
        </p:spPr>
        <p:txBody>
          <a:bodyPr lIns="90000" rIns="27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40458c"/>
                </a:solidFill>
                <a:latin typeface="Verdana"/>
              </a:rPr>
              <a:t>„</a:t>
            </a:r>
            <a:r>
              <a:rPr b="1" lang="lv-LV" sz="1600" spc="-1" strike="noStrike">
                <a:solidFill>
                  <a:srgbClr val="40458c"/>
                </a:solidFill>
                <a:latin typeface="Verdana"/>
              </a:rPr>
              <a:t>P.R.A.E. Sabiedrisko attiecību” priekšlikumi</a:t>
            </a:r>
            <a:br>
              <a:rPr sz="1600"/>
            </a:br>
            <a:r>
              <a:rPr b="1" lang="lv-LV" sz="1600" spc="-1" strike="noStrike">
                <a:solidFill>
                  <a:srgbClr val="40458c"/>
                </a:solidFill>
                <a:latin typeface="Verdana"/>
              </a:rPr>
              <a:t>„VP Market” sabiedrisko attiecību pilnveidošanai</a:t>
            </a:r>
            <a:endParaRPr b="1" lang="en-US" sz="1600" spc="-1" strike="noStrike">
              <a:solidFill>
                <a:srgbClr val="40458c"/>
              </a:solidFill>
              <a:latin typeface="Verdana"/>
            </a:endParaRPr>
          </a:p>
        </p:txBody>
      </p:sp>
      <p:sp>
        <p:nvSpPr>
          <p:cNvPr id="113" name="PlaceHolder 2"/>
          <p:cNvSpPr>
            <a:spLocks noGrp="1"/>
          </p:cNvSpPr>
          <p:nvPr>
            <p:ph/>
          </p:nvPr>
        </p:nvSpPr>
        <p:spPr>
          <a:xfrm>
            <a:off x="685440" y="1358640"/>
            <a:ext cx="792468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777777"/>
                </a:solidFill>
                <a:latin typeface="Verdana"/>
              </a:rPr>
              <a:t>Viedokļu līderu/veidotāju viedoklis </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Lai precizētu mūsu viedokli par „VP Market” komunikācijas situāciju, „P.R.A.E. Sabiedriskās attiecības” izlases kārtā aptaujāja atsevišķus viedokļu līderus un veidotājus (uzņēmējus, žurnālistus, augsta ranga ierēdņus, radošo profesiju pārstāvjus, augstskolu pasniedzējus), kuri ir iepirkušies „VP market” veikalos.</a:t>
            </a:r>
            <a:endParaRPr b="1" lang="en-US" sz="1600" spc="-1" strike="noStrike">
              <a:solidFill>
                <a:srgbClr val="40458c"/>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58c"/>
              </a:solidFill>
              <a:latin typeface="Verdana"/>
            </a:endParaRPr>
          </a:p>
          <a:p>
            <a:pPr marL="343080" indent="-343080">
              <a:lnSpc>
                <a:spcPct val="80000"/>
              </a:lnSpc>
              <a:spcBef>
                <a:spcPts val="400"/>
              </a:spcBef>
              <a:buClr>
                <a:srgbClr val="4045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777777"/>
                </a:solidFill>
                <a:latin typeface="Verdana"/>
              </a:rPr>
              <a:t>Aptauju nevar uzskatīt par pilnībā reprezentatīvu, jo mūsu mērķa auditorija pārsvarā bija latvieši ar vidējiem un augstiem ienākumiem, kuri piedalās viedokļa veidošanā par notikumiem, personām vai uzņēmumiem: mūsuprāt, tā ir mērķa grupa, kura ir svarīga ne tikai kā pircēji un kuru „VP Market” ir piesaistījis tikai daļēji.</a:t>
            </a:r>
            <a:endParaRPr b="1" lang="en-US" sz="1600" spc="-1" strike="noStrike">
              <a:solidFill>
                <a:srgbClr val="40458c"/>
              </a:solidFill>
              <a:latin typeface="Verdana"/>
            </a:endParaRPr>
          </a:p>
        </p:txBody>
      </p:sp>
      <p:sp>
        <p:nvSpPr>
          <p:cNvPr id="4" name="PlaceHolder 3"/>
          <p:cNvSpPr>
            <a:spLocks noGrp="1"/>
          </p:cNvSpPr>
          <p:nvPr>
            <p:ph type="sldNum" idx="3"/>
          </p:nvPr>
        </p:nvSpPr>
        <p:spPr/>
        <p:txBody>
          <a:bodyPr/>
          <a:p>
            <a:fld id="{A36EAA3C-5E78-448B-8B60-615E2B4057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6T10:09:22Z</dcterms:created>
  <dc:creator>PRAE</dc:creator>
  <dc:description/>
  <dc:language>en-US</dc:language>
  <cp:lastModifiedBy>Jolanta</cp:lastModifiedBy>
  <dcterms:modified xsi:type="dcterms:W3CDTF">2005-10-20T14:02:57Z</dcterms:modified>
  <cp:revision>387</cp:revision>
  <dc:subject/>
  <dc:title>PowerPoint Presentation</dc:title>
</cp:coreProperties>
</file>